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31.wmf" ContentType="image/x-wmf"/>
  <Override PartName="/ppt/media/image11.png" ContentType="image/png"/>
  <Override PartName="/ppt/media/image29.wmf" ContentType="image/x-wmf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30.wmf" ContentType="image/x-wmf"/>
  <Override PartName="/ppt/media/image28.wmf" ContentType="image/x-wmf"/>
  <Override PartName="/ppt/media/image33.png" ContentType="image/png"/>
  <Override PartName="/ppt/media/image16.wmf" ContentType="image/x-wmf"/>
  <Override PartName="/ppt/media/image6.wmf" ContentType="image/x-wmf"/>
  <Override PartName="/ppt/media/image36.wmf" ContentType="image/x-wmf"/>
  <Override PartName="/ppt/media/image13.png" ContentType="image/png"/>
  <Override PartName="/ppt/media/image8.wmf" ContentType="image/x-wmf"/>
  <Override PartName="/ppt/media/image37.png" ContentType="image/png"/>
  <Override PartName="/ppt/media/image38.png" ContentType="image/png"/>
  <Override PartName="/ppt/media/image10.wmf" ContentType="image/x-wmf"/>
  <Override PartName="/ppt/media/image2.png" ContentType="image/png"/>
  <Override PartName="/ppt/media/image32.png" ContentType="image/png"/>
  <Override PartName="/ppt/media/image1.jpeg" ContentType="image/jpeg"/>
  <Override PartName="/ppt/media/image5.wmf" ContentType="image/x-wmf"/>
  <Override PartName="/ppt/media/image35.wmf" ContentType="image/x-wmf"/>
  <Override PartName="/ppt/media/image15.png" ContentType="image/png"/>
  <Override PartName="/ppt/media/image34.png" ContentType="image/png"/>
  <Override PartName="/ppt/media/image4.png" ContentType="image/png"/>
  <Override PartName="/ppt/media/image3.wmf" ContentType="image/x-wmf"/>
  <Override PartName="/ppt/media/image26.wmf" ContentType="image/x-wmf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3696-1F12-4A22-A244-4C94D337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902B-53B5-43FF-BA0C-03784013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E3AF-2ADF-45F9-B39C-F3C5B3EC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F279-A639-4028-ADD8-AD9A1669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9746-59B4-43EF-B83F-B31132F3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3DC0-ECB9-41BC-8301-6F7A85D5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AFAD-D5D5-4257-A0F7-B382EC02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D46E-0C5A-4BD1-B1BA-B4460F34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875F-A286-4967-89C5-CE520CA0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6810-7980-413D-9292-4CA4B0D9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6392-D5D2-4FB8-817B-CDB0A1D6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C3A-9563-460C-BCF0-31CFF30D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1EE1-7F35-44E9-8555-40BDFA52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E62A-278E-4A88-81F1-C62DF034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6858-E73E-44E2-B70E-3C76D347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29EC-7752-4D4B-AA7D-045B2ED2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8939-61E5-43F3-8C03-EF7E303B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9BFAC-B376-4712-B736-9D0C4341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B934B-59DD-4B2F-BBDE-5CE843A4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85B29-C7BC-40FA-947A-46B94891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378746-4751-483E-B1AC-F2ECAE58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095535-7F8E-44AB-BF1D-10D58FE9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8E47-5763-4C9E-A207-0E008207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7D248-8E13-4795-A8A5-2F3D290B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09852B-8B64-4896-AA16-0A52D1E2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26B69-7694-4FC7-89A5-1AE1DD4F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89484E-8C5B-4137-A64F-3C280F9F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B29FF-2C54-4B91-92E9-EA7739A3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91C48-9607-46FF-B912-3F56B481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8FEE1-B405-4F0B-A3D8-C267C28D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7BC9-CB2D-4563-B4A3-DD34E018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6ED6-A32F-4632-BB86-09024DA7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F2CB-A44A-46B1-BA9E-05D6ADB6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3430-401A-4BCF-B304-2E3AD756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FC64-2E6E-4DEE-BCB7-E0630B3C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02E-C403-4C0C-B884-D0EDFC84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60FD-E0CF-478A-AAD6-8AF4DA694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00DB-E30F-4E4D-B0FA-7BADEECFF3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5084-DE85-4B19-BB96-FC11ADE3FE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hyperlink" Target="file:///&#21452;&#23550;&#24615;/8&#32990;&#20307;&#12392;16&#32990;&#20307;.cg3" TargetMode="External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hyperlink" Target="file:///&#20999;&#38283;&amp;&#26029;&#38754;&#22259;/&#20999;&#38283;&amp;&#26029;&#38754;&#22259;.cg3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hyperlink" Target="file:///&#20999;&#38283;&amp;&#26029;&#38754;&#22259;/&#23550;&#35282;&#32218;&#12434;u&#36600;&#19978;&#12395;&#22238;&#36578;.nb" TargetMode="External"/><Relationship Id="rId7" Type="http://schemas.openxmlformats.org/officeDocument/2006/relationships/hyperlink" Target="file:///&#20999;&#38283;&amp;&#26029;&#38754;&#22259;/&#23550;&#35282;&#32218;&#12434;u&#36600;&#19978;&#12395;&#22238;&#36578;.nb" TargetMode="External"/><Relationship Id="rId8" Type="http://schemas.openxmlformats.org/officeDocument/2006/relationships/hyperlink" Target="file:///&#20999;&#38283;&amp;&#26029;&#38754;&#22259;/&#23550;&#35282;&#32218;&#12434;u&#36600;&#19978;&#12395;&#22238;&#36578;.nb" TargetMode="External"/><Relationship Id="rId9" Type="http://schemas.openxmlformats.org/officeDocument/2006/relationships/hyperlink" Target="file:///&#20999;&#38283;&amp;&#26029;&#38754;&#22259;/&#23550;&#35282;&#32218;&#12434;u&#36600;&#19978;&#12395;&#22238;&#36578;.nb" TargetMode="External"/><Relationship Id="rId10" Type="http://schemas.openxmlformats.org/officeDocument/2006/relationships/hyperlink" Target="file:///&#20999;&#38283;&amp;&#26029;&#38754;&#22259;/&#23550;&#35282;&#32218;&#12434;u&#36600;&#19978;&#12395;&#22238;&#36578;.nb" TargetMode="Externa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hyperlink" Target="file:///&#20999;&#38283;&amp;&#26029;&#38754;&#22259;/&#20999;&#38283;&amp;&#26029;&#38754;&#22259;.cg3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wmf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hyperlink" Target="file:///&#23637;&#38283;&#22259;/&#23637;&#38283;&#22259;1/developement1.nb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hyperlink" Target="file:///&#23637;&#38283;&#22259;/&#27096;&#12293;&#12394;&#23637;&#38283;&#22259;/random%20development.nb" TargetMode="External"/><Relationship Id="rId6" Type="http://schemas.openxmlformats.org/officeDocument/2006/relationships/hyperlink" Target="file:///&#23637;&#38283;&#22259;/&#27096;&#12293;&#12394;&#23637;&#38283;&#22259;/random%20development.nb" TargetMode="External"/><Relationship Id="rId7" Type="http://schemas.openxmlformats.org/officeDocument/2006/relationships/hyperlink" Target="file:///&#23637;&#38283;&#22259;/&#27096;&#12293;&#12394;&#23637;&#38283;&#22259;/random%20development.nb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5.wmf"/><Relationship Id="rId6" Type="http://schemas.openxmlformats.org/officeDocument/2006/relationships/hyperlink" Target="file:///&#21452;&#23550;&#24615;/&#27491;4&#38754;&#20307;.cg3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1599840"/>
            <a:ext cx="88394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正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6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胞体の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投影図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展開図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bri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研究会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12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日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生越　茂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906480" y="353880"/>
          <a:ext cx="74739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353880"/>
                    <a:ext cx="74739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620720" y="1484280"/>
          <a:ext cx="6264360" cy="1212840"/>
        </p:xfrm>
        <a:graphic>
          <a:graphicData uri="http://schemas.openxmlformats.org/drawingml/2006/table">
            <a:tbl>
              <a:tblPr/>
              <a:tblGrid>
                <a:gridCol w="1251000"/>
                <a:gridCol w="1254240"/>
                <a:gridCol w="1254240"/>
                <a:gridCol w="1252440"/>
                <a:gridCol w="1252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頂点の個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辺の本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の枚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胞の室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正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胞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　　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　　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正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胞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　　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　　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正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胞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539640" y="2924280"/>
            <a:ext cx="4103640" cy="3402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410080" y="993600"/>
            <a:ext cx="1194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8胞体と16胞体.cg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5003640" y="3357720"/>
            <a:ext cx="3529080" cy="2511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994400" y="6308640"/>
            <a:ext cx="14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胞体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胞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06920" y="63086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胞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00920" y="1001880"/>
            <a:ext cx="89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ells.w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§1.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頂点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辺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面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1680" t="962" r="1680" b="8656"/>
          <a:stretch/>
        </p:blipFill>
        <p:spPr>
          <a:xfrm>
            <a:off x="6381720" y="1147680"/>
            <a:ext cx="2608200" cy="212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396720" y="1125360"/>
          <a:ext cx="5759640" cy="218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720" y="1125360"/>
                    <a:ext cx="5759640" cy="21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788000" y="3529080"/>
            <a:ext cx="3960720" cy="315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473040" y="3645000"/>
          <a:ext cx="3667320" cy="282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3040" y="3645000"/>
                    <a:ext cx="366732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7818120" y="4581360"/>
            <a:ext cx="974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切開,断面図.cg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§2.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投影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65040" y="1041480"/>
          <a:ext cx="8526600" cy="24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1041480"/>
                    <a:ext cx="8526600" cy="24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539640" y="3629160"/>
            <a:ext cx="8132760" cy="3039840"/>
            <a:chOff x="539640" y="3629160"/>
            <a:chExt cx="8132760" cy="3039840"/>
          </a:xfrm>
        </p:grpSpPr>
        <p:pic>
          <p:nvPicPr>
            <p:cNvPr id="138" name="" descr=""/>
            <p:cNvPicPr/>
            <p:nvPr/>
          </p:nvPicPr>
          <p:blipFill>
            <a:blip r:embed="rId3"/>
            <a:srcRect l="31604" t="21552" r="22122" b="31454"/>
            <a:stretch/>
          </p:blipFill>
          <p:spPr>
            <a:xfrm>
              <a:off x="6300720" y="3843360"/>
              <a:ext cx="2371680" cy="26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4"/>
            <a:srcRect l="37924" t="26212" r="29707" b="37861"/>
            <a:stretch/>
          </p:blipFill>
          <p:spPr>
            <a:xfrm>
              <a:off x="539640" y="4149720"/>
              <a:ext cx="1658880" cy="19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5"/>
            <a:srcRect l="33500" t="11650" r="10113" b="33784"/>
            <a:stretch/>
          </p:blipFill>
          <p:spPr>
            <a:xfrm>
              <a:off x="2801880" y="3629160"/>
              <a:ext cx="2894040" cy="30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392200" y="51498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89600" y="51498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779040" y="6323040"/>
            <a:ext cx="1302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対角線を</a:t>
            </a:r>
            <a:r>
              <a:rPr b="0" lang="ja-JP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u</a:t>
            </a:r>
            <a:r>
              <a:rPr b="0" lang="ja-JP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軸上に回転</a:t>
            </a:r>
            <a:r>
              <a:rPr b="0" lang="ja-JP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.</a:t>
            </a:r>
            <a:r>
              <a:rPr b="0" lang="ja-JP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§3.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断面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33240" y="1069920"/>
          <a:ext cx="7591680" cy="23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240" y="1069920"/>
                    <a:ext cx="7591680" cy="23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395280" y="3645000"/>
            <a:ext cx="8373960" cy="2519280"/>
            <a:chOff x="395280" y="3645000"/>
            <a:chExt cx="8373960" cy="251928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395280" y="3657600"/>
              <a:ext cx="2612880" cy="24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3354480" y="3705120"/>
              <a:ext cx="2525760" cy="23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5"/>
            <a:stretch/>
          </p:blipFill>
          <p:spPr>
            <a:xfrm>
              <a:off x="6227640" y="3645000"/>
              <a:ext cx="254160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036960" y="4905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10120" y="490536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193760" y="6308640"/>
            <a:ext cx="974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切開,断面図.cg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§4.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展開図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例１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867280" y="2924280"/>
            <a:ext cx="2448000" cy="2060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867280" y="2886120"/>
            <a:ext cx="2454480" cy="356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250920" y="1076400"/>
          <a:ext cx="8672400" cy="335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076400"/>
                    <a:ext cx="8672400" cy="33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1044720" y="4440240"/>
            <a:ext cx="26636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122800" y="1916280"/>
            <a:ext cx="2401920" cy="2449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2469960" cy="385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"/>
          <p:cNvGraphicFramePr/>
          <p:nvPr/>
        </p:nvGraphicFramePr>
        <p:xfrm>
          <a:off x="250920" y="270000"/>
          <a:ext cx="8605800" cy="357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70000"/>
                    <a:ext cx="860580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5148360" y="1916280"/>
            <a:ext cx="3840120" cy="3817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5148360" y="1919160"/>
            <a:ext cx="3803400" cy="4678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500720" y="321480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35640" y="5734080"/>
            <a:ext cx="216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2556000" y="4303800"/>
            <a:ext cx="2736720" cy="2030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179280" y="4289400"/>
            <a:ext cx="2232000" cy="1990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340000" y="537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14920" y="63086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ステップ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18560" y="63086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ステップ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38218" t="31604" r="32947" b="38978"/>
          <a:stretch/>
        </p:blipFill>
        <p:spPr>
          <a:xfrm>
            <a:off x="782640" y="1617840"/>
            <a:ext cx="1258920" cy="1603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38218" t="28970" r="12520" b="30550"/>
          <a:stretch/>
        </p:blipFill>
        <p:spPr>
          <a:xfrm>
            <a:off x="638280" y="3581280"/>
            <a:ext cx="2152440" cy="2212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rcRect l="9225" t="15275" r="9225" b="21596"/>
          <a:stretch/>
        </p:blipFill>
        <p:spPr>
          <a:xfrm>
            <a:off x="4897440" y="1422360"/>
            <a:ext cx="3562200" cy="3449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rcRect l="39536" t="33184" r="13179" b="18436"/>
          <a:stretch/>
        </p:blipFill>
        <p:spPr>
          <a:xfrm>
            <a:off x="3311640" y="3587760"/>
            <a:ext cx="2070000" cy="2649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503360" y="3078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71720" y="5021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464080" y="423072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72000" y="404640"/>
            <a:ext cx="32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胞体の展開図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67960" y="6237360"/>
            <a:ext cx="14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developement1.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§5.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様々な展開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04840" y="927000"/>
          <a:ext cx="8853480" cy="17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40" y="927000"/>
                    <a:ext cx="885348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5" name="" descr=""/>
          <p:cNvPicPr/>
          <p:nvPr/>
        </p:nvPicPr>
        <p:blipFill>
          <a:blip r:embed="rId3"/>
          <a:srcRect l="6321" t="22000" r="18962" b="20000"/>
          <a:stretch/>
        </p:blipFill>
        <p:spPr>
          <a:xfrm>
            <a:off x="755640" y="3357720"/>
            <a:ext cx="3456000" cy="2543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rcRect l="14538" t="8000" r="12641" b="18667"/>
          <a:stretch/>
        </p:blipFill>
        <p:spPr>
          <a:xfrm>
            <a:off x="4932360" y="3213000"/>
            <a:ext cx="3024360" cy="288936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1764720" y="2852640"/>
            <a:ext cx="5108760" cy="338760"/>
            <a:chOff x="1764720" y="2852640"/>
            <a:chExt cx="5108760" cy="338760"/>
          </a:xfrm>
        </p:grpSpPr>
        <p:sp>
          <p:nvSpPr>
            <p:cNvPr id="188" name=""/>
            <p:cNvSpPr/>
            <p:nvPr/>
          </p:nvSpPr>
          <p:spPr>
            <a:xfrm>
              <a:off x="1764720" y="2852640"/>
              <a:ext cx="129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 snake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70560" y="2854080"/>
              <a:ext cx="140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 starfish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3270600" y="6093000"/>
            <a:ext cx="31550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ja-JP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andom</a:t>
            </a:r>
            <a:r>
              <a:rPr b="0" lang="ja-JP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　</a:t>
            </a:r>
            <a:r>
              <a:rPr b="0" lang="ja-JP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developement.nb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hift + Ente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」　を押す毎に，新しい展開図が作られます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70760" y="1282680"/>
            <a:ext cx="178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ke.cg3   starfish.cg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§6.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双対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00000" y="3860640"/>
            <a:ext cx="2264040" cy="24544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348000" y="3908520"/>
            <a:ext cx="2216160" cy="2359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940360" y="3946680"/>
            <a:ext cx="2408400" cy="228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890640" y="1096920"/>
          <a:ext cx="7507080" cy="932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90640" y="1096920"/>
                    <a:ext cx="750708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042920" y="2060640"/>
          <a:ext cx="7201080" cy="1638360"/>
        </p:xfrm>
        <a:graphic>
          <a:graphicData uri="http://schemas.openxmlformats.org/drawingml/2006/table">
            <a:tbl>
              <a:tblPr/>
              <a:tblGrid>
                <a:gridCol w="1802160"/>
                <a:gridCol w="1800000"/>
                <a:gridCol w="1798560"/>
                <a:gridCol w="1800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頂点の個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辺の本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の枚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正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正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正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正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正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1311480" y="6381720"/>
            <a:ext cx="1391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正4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面体と正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面体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.cg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12760" y="6381720"/>
            <a:ext cx="146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面体と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面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cg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04040" y="6381720"/>
            <a:ext cx="163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面体と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面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cg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01:16:12Z</dcterms:created>
  <dc:creator>ogose shigeki</dc:creator>
  <dc:description/>
  <dc:language>en-US</dc:language>
  <cp:lastModifiedBy>ogose shigeki</cp:lastModifiedBy>
  <dcterms:modified xsi:type="dcterms:W3CDTF">2012-04-08T04:28:40Z</dcterms:modified>
  <cp:revision>61</cp:revision>
  <dc:subject/>
  <dc:title>超立方体の展開図 </dc:title>
</cp:coreProperties>
</file>