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59.png" ContentType="image/png"/>
  <Override PartName="/ppt/media/image4.wmf" ContentType="image/x-wmf"/>
  <Override PartName="/ppt/media/image81.wmf" ContentType="image/x-wmf"/>
  <Override PartName="/ppt/media/image56.png" ContentType="image/png"/>
  <Override PartName="/ppt/media/image13.wmf" ContentType="image/x-wmf"/>
  <Override PartName="/ppt/media/image55.png" ContentType="image/png"/>
  <Override PartName="/ppt/media/image53.wmf" ContentType="image/x-wmf"/>
  <Override PartName="/ppt/media/image51.wmf" ContentType="image/x-wmf"/>
  <Override PartName="/ppt/media/image29.png" ContentType="image/png"/>
  <Override PartName="/ppt/media/image48.png" ContentType="image/png"/>
  <Override PartName="/ppt/media/image46.wmf" ContentType="image/x-wmf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39.png" ContentType="image/png"/>
  <Override PartName="/ppt/media/image40.wmf" ContentType="image/x-wmf"/>
  <Override PartName="/ppt/media/image6.png" ContentType="image/png"/>
  <Override PartName="/ppt/media/image37.png" ContentType="image/png"/>
  <Override PartName="/ppt/media/image33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99.wmf" ContentType="image/x-wmf"/>
  <Override PartName="/ppt/media/image30.png" ContentType="image/png"/>
  <Override PartName="/ppt/media/image98.wmf" ContentType="image/x-wmf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52.wmf" ContentType="image/x-wmf"/>
  <Override PartName="/ppt/media/image49.png" ContentType="image/png"/>
  <Override PartName="/ppt/media/image12.png" ContentType="image/png"/>
  <Override PartName="/ppt/media/image7.wmf" ContentType="image/x-wmf"/>
  <Override PartName="/ppt/media/image19.wmf" ContentType="image/x-wmf"/>
  <Override PartName="/ppt/media/image84.wmf" ContentType="image/x-wmf"/>
  <Override PartName="/ppt/media/image50.png" ContentType="image/png"/>
  <Override PartName="/ppt/media/image11.wmf" ContentType="image/x-wmf"/>
  <Override PartName="/ppt/media/image41.png" ContentType="image/png"/>
  <Override PartName="/ppt/media/image9.wmf" ContentType="image/x-wmf"/>
  <Override PartName="/ppt/media/image86.wmf" ContentType="image/x-wmf"/>
  <Override PartName="/ppt/media/image54.wmf" ContentType="image/x-wmf"/>
  <Override PartName="/ppt/media/image14.png" ContentType="image/png"/>
  <Override PartName="/ppt/media/image64.png" ContentType="image/png"/>
  <Override PartName="/ppt/media/image65.wmf" ContentType="image/x-wmf"/>
  <Override PartName="/ppt/media/image71.png" ContentType="image/png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36.png" ContentType="image/png"/>
  <Override PartName="/ppt/media/image77.wmf" ContentType="image/x-wmf"/>
  <Override PartName="/ppt/media/image103.wmf" ContentType="image/x-wmf"/>
  <Override PartName="/ppt/media/image96.wmf" ContentType="image/x-wmf"/>
  <Override PartName="/ppt/media/image70.png" ContentType="image/png"/>
  <Override PartName="/ppt/media/image88.wmf" ContentType="image/x-wmf"/>
  <Override PartName="/ppt/media/image24.png" ContentType="image/png"/>
  <Override PartName="/ppt/media/image61.png" ContentType="image/png"/>
  <Override PartName="/ppt/media/image22.wmf" ContentType="image/x-wmf"/>
  <Override PartName="/ppt/media/image79.wmf" ContentType="image/x-wmf"/>
  <Override PartName="/ppt/media/image101.wmf" ContentType="image/x-wmf"/>
  <Override PartName="/ppt/media/image94.wmf" ContentType="image/x-wmf"/>
  <Override PartName="/ppt/media/image67.png" ContentType="image/png"/>
  <Override PartName="/ppt/media/image87.wmf" ContentType="image/x-wmf"/>
  <Override PartName="/ppt/media/image47.png" ContentType="image/png"/>
  <Override PartName="/ppt/media/image78.wmf" ContentType="image/x-wmf"/>
  <Override PartName="/ppt/media/image8.png" ContentType="image/png"/>
  <Override PartName="/ppt/media/image100.wmf" ContentType="image/x-wmf"/>
  <Override PartName="/ppt/media/image93.wmf" ContentType="image/x-wmf"/>
  <Override PartName="/ppt/media/image97.wmf" ContentType="image/x-wmf"/>
  <Override PartName="/ppt/media/image57.png" ContentType="image/png"/>
  <Override PartName="/ppt/media/image38.png" ContentType="image/png"/>
  <Override PartName="/ppt/media/image60.wmf" ContentType="image/x-wmf"/>
  <Override PartName="/ppt/media/image85.wmf" ContentType="image/x-wmf"/>
  <Override PartName="/ppt/media/image95.wmf" ContentType="image/x-wmf"/>
  <Override PartName="/ppt/media/image102.wmf" ContentType="image/x-wmf"/>
  <Override PartName="/ppt/media/image62.png" ContentType="image/png"/>
  <Override PartName="/ppt/media/image82.wmf" ContentType="image/x-wmf"/>
  <Override PartName="/ppt/media/image23.wmf" ContentType="image/x-wmf"/>
  <Override PartName="/ppt/media/image66.png" ContentType="image/png"/>
  <Override PartName="/ppt/media/image63.png" ContentType="image/png"/>
  <Override PartName="/ppt/media/image20.wmf" ContentType="image/x-wmf"/>
  <Override PartName="/ppt/media/image18.wmf" ContentType="image/x-wmf"/>
  <Override PartName="/ppt/media/image83.wmf" ContentType="image/x-wmf"/>
  <Override PartName="/ppt/media/image16.png" ContentType="image/png"/>
  <Override PartName="/ppt/media/image15.png" ContentType="image/png"/>
  <Override PartName="/ppt/media/image1.jpeg" ContentType="image/jpeg"/>
  <Override PartName="/ppt/media/image89.wmf" ContentType="image/x-wmf"/>
  <Override PartName="/ppt/media/image21.png" ContentType="image/png"/>
  <Override PartName="/ppt/media/image27.wmf" ContentType="image/x-wmf"/>
  <Override PartName="/ppt/media/image92.wmf" ContentType="image/x-wmf"/>
  <Override PartName="/ppt/media/image34.wmf" ContentType="image/x-wmf"/>
  <Override PartName="/ppt/media/image25.wmf" ContentType="image/x-wmf"/>
  <Override PartName="/ppt/media/image90.wmf" ContentType="image/x-wmf"/>
  <Override PartName="/ppt/media/image68.png" ContentType="image/png"/>
  <Override PartName="/ppt/media/image69.png" ContentType="image/png"/>
  <Override PartName="/ppt/media/image91.wmf" ContentType="image/x-wmf"/>
  <Override PartName="/ppt/media/image26.wmf" ContentType="image/x-wmf"/>
  <Override PartName="/ppt/media/image58.png" ContentType="image/png"/>
  <Override PartName="/ppt/media/image80.wmf" ContentType="image/x-wmf"/>
  <Override PartName="/ppt/media/image3.wmf" ContentType="image/x-wmf"/>
  <Override PartName="/ppt/media/image10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402264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4022640" y="972180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8158AE9-ACD6-4278-94BA-3A3F1E2F0E34}" type="slidenum"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逆に，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＝－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度のとき，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-2,0,0,0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0,0,0,2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に移るので，「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e=OA+Ae+a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」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A+(2,0,0,0)+(0,0,0,2)=(3,-1,-1,3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に移る．これを中心投影すると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1,-1/3,-1/3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となる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逆に，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＝－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度のとき，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-2,0,0,0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0,0,0,2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に移るので，「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e=OA+Ae+a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」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A+(2,0,0,0)+(0,0,0,2)=(3,-1,-1,3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に移る．これを中心投影すると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1,-1/3,-1/3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となる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tes·ser·act 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four-dimensional equivalent of a cube.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[Greek </a:t>
            </a:r>
            <a:r>
              <a:rPr b="0" i="1" lang="ja-JP" sz="1200" spc="-1" strike="noStrike">
                <a:solidFill>
                  <a:srgbClr val="000000"/>
                </a:solidFill>
                <a:latin typeface="Arial"/>
              </a:rPr>
              <a:t>tessera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, neuter pl. of </a:t>
            </a:r>
            <a:r>
              <a:rPr b="0" i="1" lang="ja-JP" sz="1200" spc="-1" strike="noStrike">
                <a:solidFill>
                  <a:srgbClr val="000000"/>
                </a:solidFill>
                <a:latin typeface="Arial"/>
              </a:rPr>
              <a:t>tessere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, four. See tessera + </a:t>
            </a:r>
            <a:r>
              <a:rPr b="0" i="1" lang="ja-JP" sz="1200" spc="-1" strike="noStrike">
                <a:solidFill>
                  <a:srgbClr val="000000"/>
                </a:solidFill>
                <a:latin typeface="Arial"/>
              </a:rPr>
              <a:t>akti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, ray of light. See actino-.] By American Herit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vec1={0,0,1,0}, vec2={0,0,0,1}, mode=2&amp;3,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vec1={1,1,1,1}, axis2={0,0,1,0}, mode=2,θ=300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逆に，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＝－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度のとき，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-2,0,0,0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0,0,0,2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に移るので，「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e=OA+Ae+a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」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A+(2,0,0,0)+(0,0,0,2)=(3,-1,-1,3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に移る．これを中心投影すると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1,-1/3,-1/3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となる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1D0E-DEB3-4872-BC68-0B0DC99D9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30E1-2D8C-416C-8778-336E8A55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A007-89C2-4C57-B19D-12568893A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C238-7393-4445-81C9-5D748FA10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C6C68-4158-41A6-BA45-5380D4E80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8FADE9-2D2C-4A63-8667-2435E8F4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ABDF0D-88DB-41B0-B3DC-1F59C33F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3AA00-664D-4AE4-9BBF-EFD2D1D5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C4D1A-C112-4749-A6F1-FBB602B0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71719-54B6-425C-8EA6-26A2F1D0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336FF-5CA2-4CC4-818D-34154C92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DDAD-4AF6-4DB8-A45B-984551CC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3FDEB-9F9B-498D-8E13-ABD1C428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9B5478-D853-49AC-86F0-DF50A79F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A7F79-FA6E-4836-96A2-C64A8065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AC1977-AB86-4F12-8749-75B71D588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41285-2AEB-4963-8E6A-48736B402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521CB-F715-4436-8DB0-B2510F7B0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A06EE-2D63-410A-85F8-8A026AD0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35DDA-2953-46EB-8C52-1AE74BE6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9BD99-5C6C-440A-AF32-DB3C5358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DD0D6-049C-4287-B808-4DB6F88B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F96C-42AA-4B62-A4F9-8B729FAD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CC4FD-F0B2-4DBE-83EF-F8A9A628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AD22A-16EA-40D2-996D-C226F8BC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AB9FA-34D5-4415-9F95-C2604A32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CB7C6-3E4E-44AC-9018-E7489014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D99B0-1DEB-4B56-B9E1-E7024B47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8E57A-8E04-41EE-A705-356ED5350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85A7E-B0AF-49F7-9D59-03D3572A4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93408-ECB1-4358-9B8B-6EC533A10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397EE-41CD-4331-AD72-950B1620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D584F-AE24-4A17-B2EC-3F5A3C149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B190-AEB7-48C8-ACF5-85740DE9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34921-E966-48F3-AD43-89C35E26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368E0-277A-4D2A-BC34-35FF3E78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1B367-8267-4C6F-9453-76263BC2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97115-F127-4682-9630-ADC23F0C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00AE3-381F-477E-9F63-21E12DE2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D07A8-8868-4824-9D7F-BFE22128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134FA-7B38-45AF-84FC-E8AEAE29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760D6-D22A-4CA8-AE22-490ED7CA6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184CC-7DEE-4D0B-9E05-0A6CD2C3D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60D6E-CAA7-48B5-8F27-D43C4419A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0BB1-97A6-47D3-9233-58FF11DA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88296-2AD0-4608-BB9D-BEE1E05A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E457F-07C1-41CE-83EF-72EF5C1A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88FB6-515C-4642-8103-E0A1CE06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E7FE5-36D4-4145-9DC3-050EDC2B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6644C-BDC2-4550-88CA-2940A234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6E4A0-D3F7-42F1-9FC6-E5BD6FF2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ABFDC-4FAC-4A9E-A1F3-264CEF94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4E1F7-CE67-4BE9-86B8-E408BBCC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5513B-76DD-4BAD-9113-87505F28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0F3F9-6EC7-4994-ADD7-B64DB1DA8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D31C-676B-4133-8031-7FC27BE9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0F2B0-DA15-4DB4-A380-82429BFCD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ADEE-1F7A-491D-A8F7-B8BD0D52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63C6-A596-4659-A37E-09A339AE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0E34-8E90-4F82-9F06-173C28C9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56C9-917B-4164-9C3D-5F94BF968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6A15-6474-4D50-AACE-CBB1AE0B1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EA81-C678-453A-B239-346E2CB11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F6B4-F2AD-4B5C-8960-EF809D9FD4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7162-54DF-40E5-B389-ED2B8F237C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4.wmf"/><Relationship Id="rId8" Type="http://schemas.openxmlformats.org/officeDocument/2006/relationships/hyperlink" Target="file:///&#23637;&#38283;&#22259;1/&#23637;&#38283;(&#20013;&#24515;&#25237;&#24433;).cg3" TargetMode="External"/><Relationship Id="rId9" Type="http://schemas.openxmlformats.org/officeDocument/2006/relationships/slideLayout" Target="../slideLayouts/slideLayout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40.wmf"/><Relationship Id="rId8" Type="http://schemas.openxmlformats.org/officeDocument/2006/relationships/hyperlink" Target="file:///&#23637;&#38283;&#22259;1/&#23637;&#38283;(u=0&#12408;&#12398;&#30452;&#25237;&#24433;).cg3" TargetMode="External"/><Relationship Id="rId9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46.wmf"/><Relationship Id="rId8" Type="http://schemas.openxmlformats.org/officeDocument/2006/relationships/hyperlink" Target="file:///&#23637;&#38283;&#22259;1/&#23637;&#38283;(z=0&#12408;&#12398;&#30452;&#25237;&#24433;).cg3" TargetMode="External"/><Relationship Id="rId9" Type="http://schemas.openxmlformats.org/officeDocument/2006/relationships/slideLayout" Target="../slideLayouts/slideLayout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1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52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53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54.wmf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60.wmf"/><Relationship Id="rId8" Type="http://schemas.openxmlformats.org/officeDocument/2006/relationships/hyperlink" Target="file:///&#23637;&#38283;&#22259;1/&#33777;&#24418;12&#38754;&#20307;&#12398;&#23637;&#38283;.cg3" TargetMode="External"/><Relationship Id="rId9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65.wmf"/><Relationship Id="rId7" Type="http://schemas.openxmlformats.org/officeDocument/2006/relationships/hyperlink" Target="file:///&#27096;&#12293;&#12394;&#23637;&#38283;&#22259;.cg3" TargetMode="External"/><Relationship Id="rId8" Type="http://schemas.openxmlformats.org/officeDocument/2006/relationships/image" Target="../media/image66.png"/><Relationship Id="rId9" Type="http://schemas.openxmlformats.org/officeDocument/2006/relationships/image" Target="../media/image67.png"/><Relationship Id="rId10" Type="http://schemas.openxmlformats.org/officeDocument/2006/relationships/image" Target="../media/image68.png"/><Relationship Id="rId11" Type="http://schemas.openxmlformats.org/officeDocument/2006/relationships/image" Target="../media/image69.png"/><Relationship Id="rId12" Type="http://schemas.openxmlformats.org/officeDocument/2006/relationships/image" Target="../media/image70.png"/><Relationship Id="rId13" Type="http://schemas.openxmlformats.org/officeDocument/2006/relationships/image" Target="../media/image71.png"/><Relationship Id="rId1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image" Target="../media/image73.wmf"/><Relationship Id="rId3" Type="http://schemas.openxmlformats.org/officeDocument/2006/relationships/image" Target="../media/image74.wmf"/><Relationship Id="rId4" Type="http://schemas.openxmlformats.org/officeDocument/2006/relationships/image" Target="../media/image75.wmf"/><Relationship Id="rId5" Type="http://schemas.openxmlformats.org/officeDocument/2006/relationships/image" Target="../media/image76.wmf"/><Relationship Id="rId6" Type="http://schemas.openxmlformats.org/officeDocument/2006/relationships/image" Target="../media/image77.wmf"/><Relationship Id="rId7" Type="http://schemas.openxmlformats.org/officeDocument/2006/relationships/image" Target="../media/image78.wmf"/><Relationship Id="rId8" Type="http://schemas.openxmlformats.org/officeDocument/2006/relationships/oleObject" Target="../embeddings/oleObject1.bin"/><Relationship Id="rId9" Type="http://schemas.openxmlformats.org/officeDocument/2006/relationships/image" Target="../media/image79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80.wmf"/><Relationship Id="rId12" Type="http://schemas.openxmlformats.org/officeDocument/2006/relationships/hyperlink" Target="file:///&#23637;&#38283;&#22259;8/&#23637;&#38283;&#22259;8.nb" TargetMode="External"/><Relationship Id="rId13" Type="http://schemas.openxmlformats.org/officeDocument/2006/relationships/hyperlink" Target="file:///&#23637;&#38283;&#22259;8/&#23637;&#38283;&#22259;8.nb" TargetMode="External"/><Relationship Id="rId14" Type="http://schemas.openxmlformats.org/officeDocument/2006/relationships/hyperlink" Target="file:///&#23637;&#38283;&#22259;8/&#23637;&#38283;&#22259;8.nb" TargetMode="External"/><Relationship Id="rId15" Type="http://schemas.openxmlformats.org/officeDocument/2006/relationships/slideLayout" Target="../slideLayouts/slideLayout25.xml"/><Relationship Id="rId1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2.wmf"/><Relationship Id="rId3" Type="http://schemas.openxmlformats.org/officeDocument/2006/relationships/image" Target="../media/image83.wmf"/><Relationship Id="rId4" Type="http://schemas.openxmlformats.org/officeDocument/2006/relationships/image" Target="../media/image84.wmf"/><Relationship Id="rId5" Type="http://schemas.openxmlformats.org/officeDocument/2006/relationships/image" Target="../media/image85.wmf"/><Relationship Id="rId6" Type="http://schemas.openxmlformats.org/officeDocument/2006/relationships/image" Target="../media/image86.wmf"/><Relationship Id="rId7" Type="http://schemas.openxmlformats.org/officeDocument/2006/relationships/image" Target="../media/image87.wmf"/><Relationship Id="rId8" Type="http://schemas.openxmlformats.org/officeDocument/2006/relationships/oleObject" Target="../embeddings/oleObject1.bin"/><Relationship Id="rId9" Type="http://schemas.openxmlformats.org/officeDocument/2006/relationships/image" Target="../media/image88.wmf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9.wmf"/><Relationship Id="rId5" Type="http://schemas.openxmlformats.org/officeDocument/2006/relationships/hyperlink" Target="file:///&#23637;&#38283;&#22259;7/&#23637;&#38283;&#22259;7.nb" TargetMode="External"/><Relationship Id="rId6" Type="http://schemas.openxmlformats.org/officeDocument/2006/relationships/image" Target="../media/image90.wmf"/><Relationship Id="rId7" Type="http://schemas.openxmlformats.org/officeDocument/2006/relationships/image" Target="../media/image91.wmf"/><Relationship Id="rId8" Type="http://schemas.openxmlformats.org/officeDocument/2006/relationships/image" Target="../media/image92.wmf"/><Relationship Id="rId9" Type="http://schemas.openxmlformats.org/officeDocument/2006/relationships/image" Target="../media/image93.wmf"/><Relationship Id="rId10" Type="http://schemas.openxmlformats.org/officeDocument/2006/relationships/image" Target="../media/image94.wmf"/><Relationship Id="rId11" Type="http://schemas.openxmlformats.org/officeDocument/2006/relationships/image" Target="../media/image95.wmf"/><Relationship Id="rId12" Type="http://schemas.openxmlformats.org/officeDocument/2006/relationships/image" Target="../media/image96.wmf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8.wmf"/><Relationship Id="rId3" Type="http://schemas.openxmlformats.org/officeDocument/2006/relationships/image" Target="../media/image97.wmf"/><Relationship Id="rId4" Type="http://schemas.openxmlformats.org/officeDocument/2006/relationships/image" Target="../media/image98.wmf"/><Relationship Id="rId5" Type="http://schemas.openxmlformats.org/officeDocument/2006/relationships/image" Target="../media/image99.wmf"/><Relationship Id="rId6" Type="http://schemas.openxmlformats.org/officeDocument/2006/relationships/image" Target="../media/image100.wmf"/><Relationship Id="rId7" Type="http://schemas.openxmlformats.org/officeDocument/2006/relationships/image" Target="../media/image101.wmf"/><Relationship Id="rId8" Type="http://schemas.openxmlformats.org/officeDocument/2006/relationships/image" Target="../media/image102.wmf"/><Relationship Id="rId9" Type="http://schemas.openxmlformats.org/officeDocument/2006/relationships/image" Target="../media/image103.wmf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29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hyperlink" Target="file:///&#36229;&#30452;&#26041;&#20307;&#12398;&#25237;&#24433;.cg3" TargetMode="External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wmf"/><Relationship Id="rId6" Type="http://schemas.openxmlformats.org/officeDocument/2006/relationships/image" Target="../media/image24.png"/><Relationship Id="rId7" Type="http://schemas.openxmlformats.org/officeDocument/2006/relationships/hyperlink" Target="file:///&#36229;&#30452;&#26041;&#20307;&#12398;zu&#24179;&#38754;&#12398;&#21608;&#12426;&#12398;&#22238;&#36578;.cg3" TargetMode="External"/><Relationship Id="rId8" Type="http://schemas.openxmlformats.org/officeDocument/2006/relationships/hyperlink" Target="file:///&#36229;&#30452;&#26041;&#20307;&#12398;zu&#24179;&#38754;&#12398;&#21608;&#12426;&#12398;&#22238;&#36578;.cg3" TargetMode="External"/><Relationship Id="rId9" Type="http://schemas.openxmlformats.org/officeDocument/2006/relationships/hyperlink" Target="file:///&#36229;&#30452;&#26041;&#20307;&#12398;zu&#24179;&#38754;&#12398;&#21608;&#12426;&#12398;&#22238;&#36578;.cg3" TargetMode="External"/><Relationship Id="rId10" Type="http://schemas.openxmlformats.org/officeDocument/2006/relationships/hyperlink" Target="file:///&#36229;&#30452;&#26041;&#20307;&#12398;zu&#24179;&#38754;&#12398;&#21608;&#12426;&#12398;&#22238;&#36578;.cg3" TargetMode="External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280" y="1599840"/>
            <a:ext cx="88394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超立方体の展開図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bri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研究会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12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年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月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日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生越　茂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280" y="-7668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§3-1.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超平面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u=1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上への中心投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685800" y="4213080"/>
            <a:ext cx="3352680" cy="20224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rcRect l="0" t="1177" r="0" b="589"/>
          <a:stretch/>
        </p:blipFill>
        <p:spPr>
          <a:xfrm>
            <a:off x="4876920" y="3784680"/>
            <a:ext cx="3276360" cy="2997000"/>
          </a:xfrm>
          <a:prstGeom prst="rect">
            <a:avLst/>
          </a:prstGeom>
          <a:ln w="0">
            <a:noFill/>
          </a:ln>
        </p:spPr>
      </p:pic>
      <p:grpSp>
        <p:nvGrpSpPr>
          <p:cNvPr id="283" name=""/>
          <p:cNvGrpSpPr/>
          <p:nvPr/>
        </p:nvGrpSpPr>
        <p:grpSpPr>
          <a:xfrm>
            <a:off x="457200" y="1905120"/>
            <a:ext cx="8152920" cy="1752480"/>
            <a:chOff x="457200" y="1905120"/>
            <a:chExt cx="8152920" cy="1752480"/>
          </a:xfrm>
        </p:grpSpPr>
        <p:pic>
          <p:nvPicPr>
            <p:cNvPr id="284" name="" descr=""/>
            <p:cNvPicPr/>
            <p:nvPr/>
          </p:nvPicPr>
          <p:blipFill>
            <a:blip r:embed="rId3"/>
            <a:stretch/>
          </p:blipFill>
          <p:spPr>
            <a:xfrm>
              <a:off x="457200" y="1992240"/>
              <a:ext cx="1720080" cy="157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" descr=""/>
            <p:cNvPicPr/>
            <p:nvPr/>
          </p:nvPicPr>
          <p:blipFill>
            <a:blip r:embed="rId4"/>
            <a:stretch/>
          </p:blipFill>
          <p:spPr>
            <a:xfrm>
              <a:off x="2925360" y="2008800"/>
              <a:ext cx="1720080" cy="154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" descr=""/>
            <p:cNvPicPr/>
            <p:nvPr/>
          </p:nvPicPr>
          <p:blipFill>
            <a:blip r:embed="rId5"/>
            <a:stretch/>
          </p:blipFill>
          <p:spPr>
            <a:xfrm>
              <a:off x="5319000" y="1905120"/>
              <a:ext cx="284256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2401560" y="2781720"/>
              <a:ext cx="29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795560" y="2781720"/>
              <a:ext cx="29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310960" y="2781720"/>
              <a:ext cx="29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343400" y="5178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46280" y="855720"/>
          <a:ext cx="7788240" cy="896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46280" y="855720"/>
                    <a:ext cx="7788240" cy="89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756720" y="6400800"/>
            <a:ext cx="9626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Tahoma"/>
                <a:hlinkClick r:id="rId8"/>
              </a:rPr>
              <a:t>展開（中心投影)cg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§3-2.  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超平面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u=0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上への直投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457200" y="1744560"/>
            <a:ext cx="1676520" cy="16034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2819520" y="1681200"/>
            <a:ext cx="2286000" cy="17287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533520" y="4038480"/>
            <a:ext cx="3504960" cy="225432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4"/>
          <a:srcRect l="0" t="717" r="0" b="1434"/>
          <a:stretch/>
        </p:blipFill>
        <p:spPr>
          <a:xfrm>
            <a:off x="5029200" y="3657600"/>
            <a:ext cx="3429000" cy="314496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5"/>
          <a:stretch/>
        </p:blipFill>
        <p:spPr>
          <a:xfrm>
            <a:off x="5638680" y="1600200"/>
            <a:ext cx="2681280" cy="189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0" name=""/>
          <p:cNvGraphicFramePr/>
          <p:nvPr/>
        </p:nvGraphicFramePr>
        <p:xfrm>
          <a:off x="1071720" y="909720"/>
          <a:ext cx="6813360" cy="614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71720" y="909720"/>
                    <a:ext cx="681336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2286000" y="25448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257800" y="2546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458200" y="2590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19720" y="524196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486400" y="1523880"/>
            <a:ext cx="1523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44120" y="6400800"/>
            <a:ext cx="1480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Tahoma"/>
                <a:hlinkClick r:id="rId8"/>
              </a:rPr>
              <a:t>展開（u=0への直投影)cg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§3-3.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超平面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z=0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上への直投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380880" y="2354400"/>
            <a:ext cx="1600200" cy="15494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2590920" y="2349360"/>
            <a:ext cx="2209680" cy="155736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5410080" y="2217600"/>
            <a:ext cx="3276720" cy="18208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4"/>
          <a:stretch/>
        </p:blipFill>
        <p:spPr>
          <a:xfrm>
            <a:off x="304920" y="4600440"/>
            <a:ext cx="3657600" cy="15433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5"/>
          <a:stretch/>
        </p:blipFill>
        <p:spPr>
          <a:xfrm>
            <a:off x="4419720" y="4626000"/>
            <a:ext cx="4343400" cy="1546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4" name=""/>
          <p:cNvGraphicFramePr/>
          <p:nvPr/>
        </p:nvGraphicFramePr>
        <p:xfrm>
          <a:off x="907920" y="1066680"/>
          <a:ext cx="7205760" cy="654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07920" y="1066680"/>
                    <a:ext cx="720576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>
            <a:off x="2057400" y="3129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876920" y="31291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610480" y="3129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038480" y="5372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36680" y="6431040"/>
            <a:ext cx="1477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Tahoma"/>
                <a:hlinkClick r:id="rId8"/>
              </a:rPr>
              <a:t>展開（ｚ=0への直投影)cg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457200" y="905040"/>
            <a:ext cx="8337600" cy="2600280"/>
            <a:chOff x="457200" y="905040"/>
            <a:chExt cx="8337600" cy="2600280"/>
          </a:xfrm>
        </p:grpSpPr>
        <p:pic>
          <p:nvPicPr>
            <p:cNvPr id="322" name="" descr=""/>
            <p:cNvPicPr/>
            <p:nvPr/>
          </p:nvPicPr>
          <p:blipFill>
            <a:blip r:embed="rId1"/>
            <a:srcRect l="0" t="15540" r="0" b="0"/>
            <a:stretch/>
          </p:blipFill>
          <p:spPr>
            <a:xfrm>
              <a:off x="457200" y="995400"/>
              <a:ext cx="2438280" cy="250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" descr=""/>
            <p:cNvPicPr/>
            <p:nvPr/>
          </p:nvPicPr>
          <p:blipFill>
            <a:blip r:embed="rId2"/>
            <a:srcRect l="0" t="17231" r="0" b="0"/>
            <a:stretch/>
          </p:blipFill>
          <p:spPr>
            <a:xfrm>
              <a:off x="3048120" y="974880"/>
              <a:ext cx="2787480" cy="253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" descr=""/>
            <p:cNvPicPr/>
            <p:nvPr/>
          </p:nvPicPr>
          <p:blipFill>
            <a:blip r:embed="rId3"/>
            <a:srcRect l="0" t="27754" r="0" b="0"/>
            <a:stretch/>
          </p:blipFill>
          <p:spPr>
            <a:xfrm>
              <a:off x="6095880" y="905040"/>
              <a:ext cx="2698920" cy="2600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5" name="" descr=""/>
          <p:cNvPicPr/>
          <p:nvPr/>
        </p:nvPicPr>
        <p:blipFill>
          <a:blip r:embed="rId4"/>
          <a:stretch/>
        </p:blipFill>
        <p:spPr>
          <a:xfrm>
            <a:off x="6421320" y="4038480"/>
            <a:ext cx="2416320" cy="243864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-7668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§3-4.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超立方体の「標準的な直投影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304920" y="4387680"/>
          <a:ext cx="5790960" cy="205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4387680"/>
                    <a:ext cx="5790960" cy="20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9" name=""/>
          <p:cNvGrpSpPr/>
          <p:nvPr/>
        </p:nvGrpSpPr>
        <p:grpSpPr>
          <a:xfrm>
            <a:off x="1347840" y="3505320"/>
            <a:ext cx="6406920" cy="304560"/>
            <a:chOff x="1347840" y="3505320"/>
            <a:chExt cx="6406920" cy="304560"/>
          </a:xfrm>
        </p:grpSpPr>
        <p:graphicFrame>
          <p:nvGraphicFramePr>
            <p:cNvPr id="330" name=""/>
            <p:cNvGraphicFramePr/>
            <p:nvPr/>
          </p:nvGraphicFramePr>
          <p:xfrm>
            <a:off x="3979800" y="3505320"/>
            <a:ext cx="650880" cy="288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3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979800" y="3505320"/>
                      <a:ext cx="650880" cy="28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2" name=""/>
            <p:cNvGraphicFramePr/>
            <p:nvPr/>
          </p:nvGraphicFramePr>
          <p:xfrm>
            <a:off x="1347840" y="3529080"/>
            <a:ext cx="547560" cy="2808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3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347840" y="3529080"/>
                      <a:ext cx="547560" cy="28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4" name=""/>
            <p:cNvGraphicFramePr/>
            <p:nvPr/>
          </p:nvGraphicFramePr>
          <p:xfrm>
            <a:off x="7104240" y="3505320"/>
            <a:ext cx="650520" cy="2887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3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104240" y="3505320"/>
                      <a:ext cx="650520" cy="28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36" name=""/>
          <p:cNvSpPr/>
          <p:nvPr/>
        </p:nvSpPr>
        <p:spPr>
          <a:xfrm>
            <a:off x="1371600" y="380988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460320" y="3809880"/>
            <a:ext cx="23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[</a:t>
            </a: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対角線</a:t>
            </a: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Og</a:t>
            </a: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が</a:t>
            </a: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軸方向になる様に回転</a:t>
            </a:r>
            <a:r>
              <a:rPr b="0" lang="ja-JP" sz="1400" spc="-1" strike="noStrike">
                <a:solidFill>
                  <a:srgbClr val="ffffff"/>
                </a:solidFill>
                <a:latin typeface="Tahoma"/>
              </a:rPr>
              <a:t>]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§3-5.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「標準的な直投影」で見た展開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685800" y="205272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3352680" y="1905120"/>
            <a:ext cx="2133720" cy="21240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6095880" y="1817640"/>
            <a:ext cx="2590920" cy="22971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1447920" y="4253040"/>
            <a:ext cx="2643120" cy="237636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5"/>
          <a:stretch/>
        </p:blipFill>
        <p:spPr>
          <a:xfrm>
            <a:off x="4952880" y="4303800"/>
            <a:ext cx="3505320" cy="2274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4" name=""/>
          <p:cNvGraphicFramePr/>
          <p:nvPr/>
        </p:nvGraphicFramePr>
        <p:xfrm>
          <a:off x="533520" y="1076400"/>
          <a:ext cx="8229600" cy="523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520" y="1076400"/>
                    <a:ext cx="82296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>
            <a:off x="2895480" y="29671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562720" y="2967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5442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343400" y="5442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290720" y="1371600"/>
            <a:ext cx="1290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Tahoma"/>
                <a:hlinkClick r:id="rId8"/>
              </a:rPr>
              <a:t>菱形12面体の展開.cg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§4.  </a:t>
            </a: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その他の展開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3755880" y="4805280"/>
            <a:ext cx="1764000" cy="120492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7391520" y="2590920"/>
            <a:ext cx="1550880" cy="117000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304920" y="4818240"/>
            <a:ext cx="1598400" cy="117792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2057400" y="4762440"/>
            <a:ext cx="1544760" cy="129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6" name=""/>
          <p:cNvGraphicFramePr/>
          <p:nvPr/>
        </p:nvGraphicFramePr>
        <p:xfrm>
          <a:off x="414360" y="1130400"/>
          <a:ext cx="8348760" cy="100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4360" y="1130400"/>
                    <a:ext cx="834876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"/>
          <p:cNvSpPr/>
          <p:nvPr/>
        </p:nvSpPr>
        <p:spPr>
          <a:xfrm>
            <a:off x="7262280" y="1143000"/>
            <a:ext cx="1024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Tahoma"/>
                <a:hlinkClick r:id="rId7"/>
              </a:rPr>
              <a:t>様々な展開図.cg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599560" y="61340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399560" y="61340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99200" y="61340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804780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304920" y="2597040"/>
            <a:ext cx="1519200" cy="1158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2103480" y="2590920"/>
            <a:ext cx="1471680" cy="117144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3855960" y="2552760"/>
            <a:ext cx="1440000" cy="124776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11"/>
          <a:stretch/>
        </p:blipFill>
        <p:spPr>
          <a:xfrm>
            <a:off x="5576760" y="2602080"/>
            <a:ext cx="1533600" cy="114768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79920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61072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42332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23484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2"/>
          <a:stretch/>
        </p:blipFill>
        <p:spPr>
          <a:xfrm>
            <a:off x="5673600" y="4781520"/>
            <a:ext cx="1486080" cy="125244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13"/>
          <a:stretch/>
        </p:blipFill>
        <p:spPr>
          <a:xfrm>
            <a:off x="7315200" y="4842000"/>
            <a:ext cx="1573200" cy="113004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6199920" y="61340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997760" y="61340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§4-1.  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「展開図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」の中心投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773280" y="1752480"/>
            <a:ext cx="7304040" cy="1882800"/>
            <a:chOff x="773280" y="1752480"/>
            <a:chExt cx="7304040" cy="1882800"/>
          </a:xfrm>
        </p:grpSpPr>
        <p:pic>
          <p:nvPicPr>
            <p:cNvPr id="377" name="" descr=""/>
            <p:cNvPicPr/>
            <p:nvPr/>
          </p:nvPicPr>
          <p:blipFill>
            <a:blip r:embed="rId1"/>
            <a:srcRect l="28871" t="29810" r="30621" b="40650"/>
            <a:stretch/>
          </p:blipFill>
          <p:spPr>
            <a:xfrm>
              <a:off x="773280" y="2284200"/>
              <a:ext cx="1170000" cy="82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2"/>
            <a:srcRect l="28871" t="28907" r="25372" b="21680"/>
            <a:stretch/>
          </p:blipFill>
          <p:spPr>
            <a:xfrm>
              <a:off x="2529000" y="2008080"/>
              <a:ext cx="131292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3"/>
            <a:srcRect l="28871" t="28907" r="25372" b="5420"/>
            <a:stretch/>
          </p:blipFill>
          <p:spPr>
            <a:xfrm>
              <a:off x="4427640" y="1779480"/>
              <a:ext cx="132084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" descr=""/>
            <p:cNvPicPr/>
            <p:nvPr/>
          </p:nvPicPr>
          <p:blipFill>
            <a:blip r:embed="rId4"/>
            <a:srcRect l="28871" t="29810" r="10499" b="2710"/>
            <a:stretch/>
          </p:blipFill>
          <p:spPr>
            <a:xfrm>
              <a:off x="6335640" y="1752480"/>
              <a:ext cx="1741680" cy="188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2120760" y="2693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21200" y="2693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927760" y="2693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717480" y="3962520"/>
            <a:ext cx="7588440" cy="2689200"/>
            <a:chOff x="717480" y="3962520"/>
            <a:chExt cx="7588440" cy="2689200"/>
          </a:xfrm>
        </p:grpSpPr>
        <p:pic>
          <p:nvPicPr>
            <p:cNvPr id="385" name="" descr=""/>
            <p:cNvPicPr/>
            <p:nvPr/>
          </p:nvPicPr>
          <p:blipFill>
            <a:blip r:embed="rId5"/>
            <a:srcRect l="28871" t="10840" r="13123" b="4517"/>
            <a:stretch/>
          </p:blipFill>
          <p:spPr>
            <a:xfrm>
              <a:off x="1222200" y="4126320"/>
              <a:ext cx="1673280" cy="23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" descr=""/>
            <p:cNvPicPr/>
            <p:nvPr/>
          </p:nvPicPr>
          <p:blipFill>
            <a:blip r:embed="rId6"/>
            <a:srcRect l="26247" t="6323" r="13123" b="4517"/>
            <a:stretch/>
          </p:blipFill>
          <p:spPr>
            <a:xfrm>
              <a:off x="3676680" y="4064400"/>
              <a:ext cx="1744560" cy="24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" descr=""/>
            <p:cNvPicPr/>
            <p:nvPr/>
          </p:nvPicPr>
          <p:blipFill>
            <a:blip r:embed="rId7"/>
            <a:srcRect l="17498" t="1807" r="9624" b="1807"/>
            <a:stretch/>
          </p:blipFill>
          <p:spPr>
            <a:xfrm>
              <a:off x="6203880" y="3962520"/>
              <a:ext cx="2102040" cy="26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717480" y="5307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171960" y="5307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97360" y="5307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91" name=""/>
          <p:cNvGraphicFramePr/>
          <p:nvPr/>
        </p:nvGraphicFramePr>
        <p:xfrm>
          <a:off x="3676680" y="2158920"/>
          <a:ext cx="114120" cy="177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676680" y="2158920"/>
                    <a:ext cx="11412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"/>
          <p:cNvGraphicFramePr/>
          <p:nvPr/>
        </p:nvGraphicFramePr>
        <p:xfrm>
          <a:off x="490680" y="990720"/>
          <a:ext cx="834552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90680" y="990720"/>
                    <a:ext cx="8345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549720" y="1600200"/>
            <a:ext cx="776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009999"/>
                </a:solidFill>
                <a:uFillTx/>
                <a:latin typeface="Tahoma"/>
                <a:hlinkClick r:id="rId12"/>
              </a:rPr>
              <a:t>展開図８</a:t>
            </a:r>
            <a:r>
              <a:rPr b="0" lang="ja-JP" sz="1200" spc="-1" strike="noStrike" u="sng">
                <a:solidFill>
                  <a:srgbClr val="009999"/>
                </a:solidFill>
                <a:uFillTx/>
                <a:latin typeface="Tahoma"/>
                <a:hlinkClick r:id="rId13"/>
              </a:rPr>
              <a:t>.</a:t>
            </a:r>
            <a:r>
              <a:rPr b="0" lang="ja-JP" sz="1200" spc="-1" strike="noStrike" u="sng">
                <a:solidFill>
                  <a:srgbClr val="009999"/>
                </a:solidFill>
                <a:uFillTx/>
                <a:latin typeface="Tahoma"/>
                <a:hlinkClick r:id="rId14"/>
              </a:rPr>
              <a:t>n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§4-2.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「展開図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」の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z=0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の上への直投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rcRect l="28871" t="33424" r="24497" b="32520"/>
          <a:stretch/>
        </p:blipFill>
        <p:spPr>
          <a:xfrm>
            <a:off x="457200" y="2217600"/>
            <a:ext cx="1536840" cy="108612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2"/>
          <a:srcRect l="28871" t="33424" r="26247" b="24390"/>
          <a:stretch/>
        </p:blipFill>
        <p:spPr>
          <a:xfrm>
            <a:off x="2592360" y="2090880"/>
            <a:ext cx="1474920" cy="134136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3"/>
          <a:srcRect l="26247" t="31617" r="26247" b="22584"/>
          <a:stretch/>
        </p:blipFill>
        <p:spPr>
          <a:xfrm>
            <a:off x="4533840" y="2033640"/>
            <a:ext cx="1562040" cy="145728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4"/>
          <a:srcRect l="26247" t="33424" r="15748" b="19874"/>
          <a:stretch/>
        </p:blipFill>
        <p:spPr>
          <a:xfrm>
            <a:off x="6696000" y="2017800"/>
            <a:ext cx="1914480" cy="148752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5"/>
          <a:srcRect l="26247" t="17327" r="16623" b="0"/>
          <a:stretch/>
        </p:blipFill>
        <p:spPr>
          <a:xfrm>
            <a:off x="1157400" y="3962520"/>
            <a:ext cx="1877760" cy="206028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6"/>
          <a:srcRect l="28871" t="25294" r="15748" b="18067"/>
          <a:stretch/>
        </p:blipFill>
        <p:spPr>
          <a:xfrm>
            <a:off x="3827520" y="4092480"/>
            <a:ext cx="1820880" cy="179856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7"/>
          <a:srcRect l="24497" t="27146" r="16623" b="0"/>
          <a:stretch/>
        </p:blipFill>
        <p:spPr>
          <a:xfrm>
            <a:off x="6442200" y="4084560"/>
            <a:ext cx="1939680" cy="181764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2133720" y="2762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143240" y="2762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248520" y="2762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09480" y="49928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279600" y="49928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892840" y="49928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609480" y="1371600"/>
          <a:ext cx="7391520" cy="298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09480" y="1371600"/>
                    <a:ext cx="739152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§4-3.  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「展開図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」の中心投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3676680" y="2158920"/>
          <a:ext cx="11412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76680" y="2158920"/>
                    <a:ext cx="11412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"/>
          <p:cNvGraphicFramePr/>
          <p:nvPr/>
        </p:nvGraphicFramePr>
        <p:xfrm>
          <a:off x="790560" y="990720"/>
          <a:ext cx="7954920" cy="53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0560" y="990720"/>
                    <a:ext cx="79549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"/>
          <p:cNvSpPr/>
          <p:nvPr/>
        </p:nvSpPr>
        <p:spPr>
          <a:xfrm>
            <a:off x="6560640" y="1295280"/>
            <a:ext cx="77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Tahoma"/>
                <a:hlinkClick r:id="rId5"/>
              </a:rPr>
              <a:t>展開図7.n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838080" y="2209680"/>
            <a:ext cx="7416720" cy="1320840"/>
            <a:chOff x="838080" y="2209680"/>
            <a:chExt cx="7416720" cy="1320840"/>
          </a:xfrm>
        </p:grpSpPr>
        <p:sp>
          <p:nvSpPr>
            <p:cNvPr id="419" name=""/>
            <p:cNvSpPr/>
            <p:nvPr/>
          </p:nvSpPr>
          <p:spPr>
            <a:xfrm>
              <a:off x="1842840" y="2870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19240" y="2870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960880" y="2870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22" name="" descr=""/>
            <p:cNvPicPr/>
            <p:nvPr/>
          </p:nvPicPr>
          <p:blipFill>
            <a:blip r:embed="rId6"/>
            <a:srcRect l="34996" t="14919" r="39370" b="36801"/>
            <a:stretch/>
          </p:blipFill>
          <p:spPr>
            <a:xfrm>
              <a:off x="838080" y="2209680"/>
              <a:ext cx="795240" cy="13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" descr=""/>
            <p:cNvPicPr/>
            <p:nvPr/>
          </p:nvPicPr>
          <p:blipFill>
            <a:blip r:embed="rId7"/>
            <a:srcRect l="20122" t="12930" r="36745" b="39785"/>
            <a:stretch/>
          </p:blipFill>
          <p:spPr>
            <a:xfrm>
              <a:off x="2280960" y="2227320"/>
              <a:ext cx="1328760" cy="12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" descr=""/>
            <p:cNvPicPr/>
            <p:nvPr/>
          </p:nvPicPr>
          <p:blipFill>
            <a:blip r:embed="rId8"/>
            <a:srcRect l="14873" t="11936" r="36745" b="41774"/>
            <a:stretch/>
          </p:blipFill>
          <p:spPr>
            <a:xfrm>
              <a:off x="4257720" y="2239920"/>
              <a:ext cx="1493640" cy="12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" descr=""/>
            <p:cNvPicPr/>
            <p:nvPr/>
          </p:nvPicPr>
          <p:blipFill>
            <a:blip r:embed="rId9"/>
            <a:srcRect l="15748" t="13427" r="23622" b="41277"/>
            <a:stretch/>
          </p:blipFill>
          <p:spPr>
            <a:xfrm>
              <a:off x="6400800" y="2259000"/>
              <a:ext cx="1854000" cy="1222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26" name="" descr=""/>
          <p:cNvPicPr/>
          <p:nvPr/>
        </p:nvPicPr>
        <p:blipFill>
          <a:blip r:embed="rId10"/>
          <a:srcRect l="14873" t="12930" r="7874" b="40780"/>
          <a:stretch/>
        </p:blipFill>
        <p:spPr>
          <a:xfrm>
            <a:off x="849240" y="4537080"/>
            <a:ext cx="2386080" cy="126360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11"/>
          <a:srcRect l="13123" t="10444" r="13998" b="38791"/>
          <a:stretch/>
        </p:blipFill>
        <p:spPr>
          <a:xfrm>
            <a:off x="3638520" y="4479840"/>
            <a:ext cx="2252520" cy="137808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12"/>
          <a:srcRect l="13561" t="9946" r="13998" b="17903"/>
          <a:stretch/>
        </p:blipFill>
        <p:spPr>
          <a:xfrm>
            <a:off x="6296040" y="4191120"/>
            <a:ext cx="2238480" cy="195732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3322800" y="5168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978520" y="5168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33520" y="5170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§4-4.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「展開図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」の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z=0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の上への直投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609480" y="1371600"/>
          <a:ext cx="7391520" cy="2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739152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5" name=""/>
          <p:cNvGrpSpPr/>
          <p:nvPr/>
        </p:nvGrpSpPr>
        <p:grpSpPr>
          <a:xfrm>
            <a:off x="533520" y="2660760"/>
            <a:ext cx="8039160" cy="1225440"/>
            <a:chOff x="533520" y="2660760"/>
            <a:chExt cx="8039160" cy="1225440"/>
          </a:xfrm>
        </p:grpSpPr>
        <p:sp>
          <p:nvSpPr>
            <p:cNvPr id="436" name=""/>
            <p:cNvSpPr/>
            <p:nvPr/>
          </p:nvSpPr>
          <p:spPr>
            <a:xfrm>
              <a:off x="1752840" y="32731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552840" y="32731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712120" y="32731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39" name="" descr=""/>
            <p:cNvPicPr/>
            <p:nvPr/>
          </p:nvPicPr>
          <p:blipFill>
            <a:blip r:embed="rId3"/>
            <a:srcRect l="37620" t="26855" r="32371" b="34812"/>
            <a:stretch/>
          </p:blipFill>
          <p:spPr>
            <a:xfrm>
              <a:off x="533520" y="2716200"/>
              <a:ext cx="988920" cy="11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" descr=""/>
            <p:cNvPicPr/>
            <p:nvPr/>
          </p:nvPicPr>
          <p:blipFill>
            <a:blip r:embed="rId4"/>
            <a:srcRect l="34996" t="31828" r="33246" b="35807"/>
            <a:stretch/>
          </p:blipFill>
          <p:spPr>
            <a:xfrm>
              <a:off x="2289240" y="2806560"/>
              <a:ext cx="1033560" cy="93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" descr=""/>
            <p:cNvPicPr/>
            <p:nvPr/>
          </p:nvPicPr>
          <p:blipFill>
            <a:blip r:embed="rId5"/>
            <a:srcRect l="24497" t="35807" r="33246" b="30833"/>
            <a:stretch/>
          </p:blipFill>
          <p:spPr>
            <a:xfrm>
              <a:off x="4089600" y="2787480"/>
              <a:ext cx="139212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" descr=""/>
            <p:cNvPicPr/>
            <p:nvPr/>
          </p:nvPicPr>
          <p:blipFill>
            <a:blip r:embed="rId6"/>
            <a:srcRect l="14951" t="10422" r="24669" b="15633"/>
            <a:stretch/>
          </p:blipFill>
          <p:spPr>
            <a:xfrm>
              <a:off x="6248520" y="2660760"/>
              <a:ext cx="2324160" cy="122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3" name=""/>
          <p:cNvGrpSpPr/>
          <p:nvPr/>
        </p:nvGrpSpPr>
        <p:grpSpPr>
          <a:xfrm>
            <a:off x="533520" y="4649760"/>
            <a:ext cx="8086680" cy="1065240"/>
            <a:chOff x="533520" y="4649760"/>
            <a:chExt cx="8086680" cy="1065240"/>
          </a:xfrm>
        </p:grpSpPr>
        <p:sp>
          <p:nvSpPr>
            <p:cNvPr id="444" name=""/>
            <p:cNvSpPr/>
            <p:nvPr/>
          </p:nvSpPr>
          <p:spPr>
            <a:xfrm>
              <a:off x="3187800" y="51832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959440" y="51832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46" name="" descr=""/>
            <p:cNvPicPr/>
            <p:nvPr/>
          </p:nvPicPr>
          <p:blipFill>
            <a:blip r:embed="rId7"/>
            <a:srcRect l="14873" t="32027" r="14873" b="31132"/>
            <a:stretch/>
          </p:blipFill>
          <p:spPr>
            <a:xfrm>
              <a:off x="820800" y="4649760"/>
              <a:ext cx="2306520" cy="10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" descr=""/>
            <p:cNvPicPr/>
            <p:nvPr/>
          </p:nvPicPr>
          <p:blipFill>
            <a:blip r:embed="rId8"/>
            <a:srcRect l="13998" t="44758" r="14873" b="29839"/>
            <a:stretch/>
          </p:blipFill>
          <p:spPr>
            <a:xfrm>
              <a:off x="3552840" y="4813200"/>
              <a:ext cx="2346480" cy="73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" descr=""/>
            <p:cNvPicPr/>
            <p:nvPr/>
          </p:nvPicPr>
          <p:blipFill>
            <a:blip r:embed="rId9"/>
            <a:srcRect l="13123" t="46748" r="16623" b="29839"/>
            <a:stretch/>
          </p:blipFill>
          <p:spPr>
            <a:xfrm>
              <a:off x="6324480" y="4844880"/>
              <a:ext cx="229572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533520" y="5181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§1.  4</a:t>
            </a: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次元立体の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次元への投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207040" y="990720"/>
          <a:ext cx="3251160" cy="21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7040" y="990720"/>
                    <a:ext cx="325116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5181480" y="3505320"/>
          <a:ext cx="3564000" cy="262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3505320"/>
                    <a:ext cx="3564000" cy="26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457200" y="1219320"/>
            <a:ext cx="4324320" cy="1935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457200" y="3886200"/>
            <a:ext cx="4495680" cy="19288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918800" y="6303960"/>
            <a:ext cx="531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ahoma"/>
              </a:rPr>
              <a:t>超平面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u=t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zh-CN" sz="1600" spc="-1" strike="noStrike">
                <a:solidFill>
                  <a:srgbClr val="ff0000"/>
                </a:solidFill>
                <a:latin typeface="Tahoma"/>
              </a:rPr>
              <a:t>による断面が分かれば，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/t</a:t>
            </a:r>
            <a:r>
              <a:rPr b="1" lang="zh-CN" sz="1600" spc="-1" strike="noStrike">
                <a:solidFill>
                  <a:srgbClr val="ff0000"/>
                </a:solidFill>
                <a:latin typeface="Tahoma"/>
              </a:rPr>
              <a:t>倍の相似変換により，中心投影が作成できる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zh-CN" sz="4400" spc="-1" strike="noStrike">
                <a:solidFill>
                  <a:srgbClr val="e5ffff"/>
                </a:solidFill>
                <a:latin typeface="Tahoma"/>
              </a:rPr>
              <a:t>まとめ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1" name=""/>
          <p:cNvSpPr/>
          <p:nvPr/>
        </p:nvSpPr>
        <p:spPr>
          <a:xfrm>
            <a:off x="1749600" y="1768320"/>
            <a:ext cx="5789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超直方体の２つの胞は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つの平面を共有する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この平面を軸とする回転を繰り返す事によって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超直方体を，超平面上に展開できる．超角錐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正多胞体などの超多面体でも，同様に展開可能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展開の過程は，投影法によって全く違って見える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また，最終的な展開図形も，色々な形がある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超平面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u=t 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による断面を</a:t>
            </a:r>
            <a:br>
              <a:rPr sz="4000"/>
            </a:b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利用した中心投影の作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838080" y="2513160"/>
          <a:ext cx="7612200" cy="151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513160"/>
                    <a:ext cx="7612200" cy="15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§1-1.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超直方体の定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743200" y="914400"/>
            <a:ext cx="3200400" cy="293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7" name=""/>
          <p:cNvGraphicFramePr/>
          <p:nvPr/>
        </p:nvGraphicFramePr>
        <p:xfrm>
          <a:off x="552600" y="3933720"/>
          <a:ext cx="7962840" cy="2756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2600" y="3933720"/>
                    <a:ext cx="7962840" cy="27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1143000" y="3301920"/>
          <a:ext cx="6705720" cy="15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301920"/>
                    <a:ext cx="670572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3352680" y="4495680"/>
            <a:ext cx="44960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429000" y="3886200"/>
            <a:ext cx="32767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05320" y="3581280"/>
            <a:ext cx="2514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304920" y="177840"/>
            <a:ext cx="3124080" cy="28638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602600" y="304920"/>
            <a:ext cx="356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¿Question?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ahoma"/>
              </a:rPr>
              <a:t>超直方体の頂点，辺，面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ahoma"/>
              </a:rPr>
              <a:t>胞</a:t>
            </a:r>
            <a:r>
              <a:rPr b="0" lang="zh-CN" sz="2800" spc="-1" strike="noStrike">
                <a:solidFill>
                  <a:srgbClr val="333399"/>
                </a:solidFill>
                <a:latin typeface="Tahoma"/>
              </a:rPr>
              <a:t>（超表面上の立体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)</a:t>
            </a:r>
            <a:r>
              <a:rPr b="0" lang="zh-CN" sz="3600" spc="-1" strike="noStrike">
                <a:solidFill>
                  <a:srgbClr val="333399"/>
                </a:solidFill>
                <a:latin typeface="Tahoma"/>
              </a:rPr>
              <a:t>の数は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12408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219320" y="5316480"/>
          <a:ext cx="5243400" cy="1066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19320" y="5316480"/>
                    <a:ext cx="52434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3429000" y="4191120"/>
            <a:ext cx="41148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2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2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2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2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§1-2.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超直方体の中心投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181480" y="1082520"/>
            <a:ext cx="3505320" cy="230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2" name=""/>
          <p:cNvGraphicFramePr/>
          <p:nvPr/>
        </p:nvGraphicFramePr>
        <p:xfrm>
          <a:off x="627120" y="3760920"/>
          <a:ext cx="4983120" cy="2463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7120" y="3760920"/>
                    <a:ext cx="4983120" cy="24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5943600" y="3809880"/>
            <a:ext cx="2819520" cy="2718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741480" y="6324480"/>
            <a:ext cx="1271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Tahoma"/>
                <a:hlinkClick r:id="rId5"/>
              </a:rPr>
              <a:t>超直方体の投影.cg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6"/>
          <a:srcRect l="0" t="0" r="0" b="2111"/>
          <a:stretch/>
        </p:blipFill>
        <p:spPr>
          <a:xfrm>
            <a:off x="685800" y="1082520"/>
            <a:ext cx="342900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§2.  4</a:t>
            </a: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次元空間内の回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rcRect l="0" t="0" r="0" b="8217"/>
          <a:stretch/>
        </p:blipFill>
        <p:spPr>
          <a:xfrm>
            <a:off x="762120" y="1600200"/>
            <a:ext cx="2162160" cy="20098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rcRect l="7609" t="0" r="6341" b="0"/>
          <a:stretch/>
        </p:blipFill>
        <p:spPr>
          <a:xfrm>
            <a:off x="723960" y="4172040"/>
            <a:ext cx="2165400" cy="184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3373560" y="1787400"/>
          <a:ext cx="5160960" cy="16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73560" y="1787400"/>
                    <a:ext cx="5160960" cy="16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3373560" y="4044960"/>
          <a:ext cx="5236920" cy="2273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73560" y="4044960"/>
                    <a:ext cx="5236920" cy="22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6483600" y="6324480"/>
            <a:ext cx="2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609480" y="1143000"/>
          <a:ext cx="7925040" cy="29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480" y="1143000"/>
                    <a:ext cx="7925040" cy="29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§2-1.  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ｘｙ平面を軸とする回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4499" t="0" r="0" b="0"/>
          <a:stretch/>
        </p:blipFill>
        <p:spPr>
          <a:xfrm>
            <a:off x="316080" y="3889440"/>
            <a:ext cx="3493800" cy="266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9" name=""/>
          <p:cNvGraphicFramePr/>
          <p:nvPr/>
        </p:nvGraphicFramePr>
        <p:xfrm>
          <a:off x="4127400" y="1066680"/>
          <a:ext cx="4768920" cy="245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27400" y="1066680"/>
                    <a:ext cx="4768920" cy="24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4124160" y="3948120"/>
          <a:ext cx="4867560" cy="245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24160" y="3948120"/>
                    <a:ext cx="4867560" cy="24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3" name="" descr=""/>
          <p:cNvPicPr/>
          <p:nvPr/>
        </p:nvPicPr>
        <p:blipFill>
          <a:blip r:embed="rId6"/>
          <a:srcRect l="8519" t="6057" r="0" b="0"/>
          <a:stretch/>
        </p:blipFill>
        <p:spPr>
          <a:xfrm>
            <a:off x="316080" y="1176480"/>
            <a:ext cx="3429000" cy="22525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6528600" y="6477120"/>
            <a:ext cx="208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ja-JP" sz="1400" spc="-1" strike="noStrike" u="sng">
                <a:solidFill>
                  <a:srgbClr val="009999"/>
                </a:solidFill>
                <a:uFillTx/>
                <a:latin typeface="Tahoma"/>
                <a:hlinkClick r:id="rId7"/>
              </a:rPr>
              <a:t>超直方体の</a:t>
            </a:r>
            <a:r>
              <a:rPr b="0" lang="ja-JP" sz="1400" spc="-1" strike="noStrike" u="sng">
                <a:solidFill>
                  <a:srgbClr val="009999"/>
                </a:solidFill>
                <a:uFillTx/>
                <a:latin typeface="Tahoma"/>
                <a:hlinkClick r:id="rId8"/>
              </a:rPr>
              <a:t>zu</a:t>
            </a:r>
            <a:r>
              <a:rPr b="0" lang="ja-JP" sz="1400" spc="-1" strike="noStrike" u="sng">
                <a:solidFill>
                  <a:srgbClr val="009999"/>
                </a:solidFill>
                <a:uFillTx/>
                <a:latin typeface="Tahoma"/>
                <a:hlinkClick r:id="rId9"/>
              </a:rPr>
              <a:t>平面周りの回転</a:t>
            </a:r>
            <a:r>
              <a:rPr b="0" lang="ja-JP" sz="1400" spc="-1" strike="noStrike" u="sng">
                <a:solidFill>
                  <a:srgbClr val="009999"/>
                </a:solidFill>
                <a:uFillTx/>
                <a:latin typeface="Tahoma"/>
                <a:hlinkClick r:id="rId10"/>
              </a:rPr>
              <a:t>.cg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35920" y="3382920"/>
            <a:ext cx="233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Tahoma"/>
              </a:rPr>
              <a:t>[zu</a:t>
            </a:r>
            <a:r>
              <a:rPr b="0" lang="ja-JP" sz="1200" spc="-1" strike="noStrike">
                <a:solidFill>
                  <a:srgbClr val="ffffff"/>
                </a:solidFill>
                <a:latin typeface="Tahoma"/>
              </a:rPr>
              <a:t>平面と</a:t>
            </a:r>
            <a:r>
              <a:rPr b="0" lang="ja-JP" sz="1200" spc="-1" strike="noStrike">
                <a:solidFill>
                  <a:srgbClr val="ffffff"/>
                </a:solidFill>
                <a:latin typeface="Tahoma"/>
              </a:rPr>
              <a:t>xyz</a:t>
            </a:r>
            <a:r>
              <a:rPr b="0" lang="ja-JP" sz="1200" spc="-1" strike="noStrike">
                <a:solidFill>
                  <a:srgbClr val="ffffff"/>
                </a:solidFill>
                <a:latin typeface="Tahoma"/>
              </a:rPr>
              <a:t>空間を重ねて描いた図（同下</a:t>
            </a:r>
            <a:r>
              <a:rPr b="0" lang="ja-JP" sz="1200" spc="-1" strike="noStrike">
                <a:solidFill>
                  <a:srgbClr val="ffffff"/>
                </a:solidFill>
                <a:latin typeface="Tahoma"/>
              </a:rPr>
              <a:t>)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§3.  </a:t>
            </a: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超立方体の標準的な展開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279360" y="1074600"/>
          <a:ext cx="8318520" cy="276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360" y="1074600"/>
                    <a:ext cx="8318520" cy="27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279360" y="3772080"/>
          <a:ext cx="8674200" cy="255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9360" y="3772080"/>
                    <a:ext cx="8674200" cy="25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"/>
          <p:cNvSpPr/>
          <p:nvPr/>
        </p:nvSpPr>
        <p:spPr>
          <a:xfrm>
            <a:off x="7032600" y="6324480"/>
            <a:ext cx="18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99"/>
                </a:solidFill>
                <a:latin typeface="Tahoma"/>
              </a:rPr>
              <a:t>　　超直方体の展開図</a:t>
            </a:r>
            <a:r>
              <a:rPr b="0" lang="ja-JP" sz="1400" spc="-1" strike="noStrike">
                <a:solidFill>
                  <a:srgbClr val="009999"/>
                </a:solidFill>
                <a:latin typeface="Tahoma"/>
              </a:rPr>
              <a:t>.gg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431640" y="6397560"/>
          <a:ext cx="5492880" cy="244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1640" y="6397560"/>
                    <a:ext cx="5492880" cy="2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6693120" y="4616280"/>
            <a:ext cx="13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[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=1</a:t>
            </a: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の上への中心投影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6095880" y="1905120"/>
            <a:ext cx="2666880" cy="3047760"/>
            <a:chOff x="6095880" y="1905120"/>
            <a:chExt cx="2666880" cy="3047760"/>
          </a:xfrm>
        </p:grpSpPr>
        <p:sp>
          <p:nvSpPr>
            <p:cNvPr id="276" name=""/>
            <p:cNvSpPr/>
            <p:nvPr/>
          </p:nvSpPr>
          <p:spPr>
            <a:xfrm>
              <a:off x="6095880" y="1905120"/>
              <a:ext cx="2666880" cy="304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6190920" y="1981080"/>
              <a:ext cx="2495520" cy="2513880"/>
              <a:chOff x="6190920" y="1981080"/>
              <a:chExt cx="2495520" cy="2513880"/>
            </a:xfrm>
          </p:grpSpPr>
          <p:pic>
            <p:nvPicPr>
              <p:cNvPr id="278" name="" descr=""/>
              <p:cNvPicPr/>
              <p:nvPr/>
            </p:nvPicPr>
            <p:blipFill>
              <a:blip r:embed="rId7"/>
              <a:srcRect l="0" t="762" r="0" b="0"/>
              <a:stretch/>
            </p:blipFill>
            <p:spPr>
              <a:xfrm>
                <a:off x="6190920" y="1999800"/>
                <a:ext cx="2495520" cy="249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" name=""/>
              <p:cNvSpPr/>
              <p:nvPr/>
            </p:nvSpPr>
            <p:spPr>
              <a:xfrm>
                <a:off x="8000640" y="1981080"/>
                <a:ext cx="76320" cy="75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gose shigeki</cp:lastModifiedBy>
  <dcterms:modified xsi:type="dcterms:W3CDTF">2012-04-17T08:22:57Z</dcterms:modified>
  <cp:revision>2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