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31.png" ContentType="image/png"/>
  <Override PartName="/ppt/media/image28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9.png" ContentType="image/png"/>
  <Override PartName="/ppt/media/image17.wmf" ContentType="image/x-wmf"/>
  <Override PartName="/ppt/media/image15.png" ContentType="image/png"/>
  <Override PartName="/ppt/media/image4.wmf" ContentType="image/x-wmf"/>
  <Override PartName="/ppt/media/image5.png" ContentType="image/png"/>
  <Override PartName="/ppt/media/image2.jpeg" ContentType="image/jpeg"/>
  <Override PartName="/ppt/media/image12.wmf" ContentType="image/x-wmf"/>
  <Override PartName="/ppt/media/image13.png" ContentType="image/png"/>
  <Override PartName="/ppt/media/image9.wmf" ContentType="image/x-wmf"/>
  <Override PartName="/ppt/media/image39.wmf" ContentType="image/x-wmf"/>
  <Override PartName="/ppt/media/image32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wmf" ContentType="image/x-wmf"/>
  <Override PartName="/ppt/media/image37.wmf" ContentType="image/x-wmf"/>
  <Override PartName="/ppt/media/image42.png" ContentType="image/png"/>
  <Override PartName="/ppt/media/image27.png" ContentType="image/png"/>
  <Override PartName="/ppt/media/image30.wmf" ContentType="image/x-wmf"/>
  <Override PartName="/ppt/media/image43.png" ContentType="image/png"/>
  <Override PartName="/ppt/media/image3.wmf" ContentType="image/x-wmf"/>
  <Override PartName="/ppt/media/image26.wmf" ContentType="image/x-wmf"/>
  <Override PartName="/ppt/media/image44.png" ContentType="image/png"/>
  <Override PartName="/ppt/media/image41.wmf" ContentType="image/x-wmf"/>
  <Override PartName="/ppt/media/image8.png" ContentType="image/png"/>
  <Override PartName="/ppt/media/image38.png" ContentType="image/png"/>
  <Override PartName="/ppt/media/image11.wmf" ContentType="image/x-wmf"/>
  <Override PartName="/ppt/media/image40.wmf" ContentType="image/x-wmf"/>
  <Override PartName="/ppt/media/image7.png" ContentType="image/png"/>
  <Override PartName="/ppt/media/image1.jpeg" ContentType="image/jpeg"/>
  <Override PartName="/ppt/media/image10.wmf" ContentType="image/x-wmf"/>
  <Override PartName="/ppt/media/image25.png" ContentType="image/png"/>
  <Override PartName="/ppt/media/image36.png" ContentType="image/png"/>
  <Override PartName="/ppt/media/image6.png" ContentType="image/png"/>
  <Override PartName="/ppt/media/image14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ja-JP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FE11137-4373-4698-B6F1-C06208145D38}" type="slidenum">
              <a:rPr b="0" lang="ja-JP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es·ser·act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four-dimensional equivalent of a cube.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[Greek </a:t>
            </a: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tesser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neuter pl. of </a:t>
            </a: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tessere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four. See tessera + </a:t>
            </a: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akti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ray of light. See actino-.] By American Herit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tes·ser·act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four-dimensional equivalent of a cube.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[Greek </a:t>
            </a: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tesser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neuter pl. of </a:t>
            </a: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tessere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four. See tessera + </a:t>
            </a:r>
            <a:r>
              <a:rPr b="0" i="1" lang="ja-JP" sz="1200" spc="-1" strike="noStrike">
                <a:solidFill>
                  <a:srgbClr val="000000"/>
                </a:solidFill>
                <a:latin typeface="Arial"/>
              </a:rPr>
              <a:t>akti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, ray of light. See actino-.] By American Herit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B1E-710C-4611-A501-578487F3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49B0-A9E4-42BA-A000-9361EEE1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B5C-1617-4C37-B8A9-64CBCB3E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AD0-5963-47E6-ABBF-96423733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771DB-59B1-471C-954D-01CEB40A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A4768-F6A4-4017-AD91-25C44C9D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CDA8A-5EF5-4F88-82C8-1B527D98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FFD19D-2ECC-4AD1-98F0-A10FAB8F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FFB9D-4E68-4BAB-BF8B-1FDE3E5C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A4863-3F83-428B-AE77-CAC68570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C9F06-AD70-4280-9B30-4077F02A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90D-6DFD-4783-8200-DA94B07E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34EA1-359C-4705-AFE5-BEF8F8D9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9AD75-F062-4916-A2B6-9149A698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3EA4D-460D-4663-9762-FDA80699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D522B-16AE-427D-BCEF-8BB7E6F1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A4EAE-AD76-48C2-9713-89A9C4ED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B961-1AB9-46ED-AF21-C76CFF4A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E10DA-16D6-46CD-A239-A31DEFD8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985F-5C9D-4B5D-88C2-5AA4F82E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D804E-1984-40F7-ACB4-E4F0EB4F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C7A5-1E4F-4C9A-B08E-9C932291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86B-20E8-40EE-92A7-29B19876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14B3-96AC-4BCD-B340-6080D057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7555D-E259-47BD-8D43-C15C4407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FE0D8-23BA-4C11-A3E2-9D16B6FC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D750-E21E-4760-8656-C9B8C6A1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55820-2FBC-48BF-9505-9B07361B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4EDEE-E053-4FED-AE98-E123246E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EC08-14DC-4ED9-AA9D-0ADA10D7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EB2E2-A3F5-4B3A-AE92-8428900F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B6022-0B88-4E44-851E-109CCB99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517B0-3DB5-403D-8294-7321FBC6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7BF-26D7-44F8-BC43-8E2C75DA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C132-747D-4D7F-B19F-2BBA3515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AA467-013B-4F74-AFC7-42642996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DF27D-40AC-4F4C-BDC0-A13C50E8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1C124-6235-4B55-8F4C-982B1D3F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C5017-0B72-42D3-A30C-C2784A69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30B25-DFCB-4B24-A717-A208E770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A92C1-107C-43A2-A2B8-6EB5DCA0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BF33-601C-4D9F-9AB0-D25CFAC2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2CF15-CFCC-4294-89F0-667F650D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2281E-4532-4A67-8129-06E0267F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9B66-5ACF-4E94-BD71-CAA986CE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300F8-0D2A-4CB9-A573-868AA0E8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ACED3-B72B-445C-B370-B52B1B06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185ED-0C7A-4E22-92D2-1D46F6F0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62196-E95F-4FE9-920B-E7932738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EAFE0-1386-4AF0-86D9-C96167B2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6B436-0ED3-4C3E-A395-9156FA33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1BF38-4A36-4ABE-BB82-F542E343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83A58-4065-4F2F-987B-2A9B0E67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6CF92-DD27-4197-B324-47E4B942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34D0E-C339-4550-80D3-14680E5E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1F23-0129-4F92-A105-964E75ED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34E71-57C1-461F-BA5F-0A5631E67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2D9-37B0-45BB-977F-C03EF685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343-FA8B-4D0C-95F7-BC4E9EC9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193-FE85-40EE-AE0B-B6F54A0C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E28F-7059-4784-94A1-5524655E0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A739-A4C1-42C7-864E-D0CE2B4A5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87EE-6F03-4C55-94D0-D793DBEB4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DC18-F082-4C6C-9557-7B879561D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3447-7B31-4FFA-82F1-348BCDD254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2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0.wmf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hyperlink" Target="file:///&#36229;&#30452;&#26041;&#20307;&#12398;&#23556;&#24433;.cg3" TargetMode="External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image" Target="../media/image38.png"/><Relationship Id="rId7" Type="http://schemas.openxmlformats.org/officeDocument/2006/relationships/hyperlink" Target="file:///figs/&#36229;&#30452;&#26041;&#20307;&#12398;&#23450;&#32681;2.cg3" TargetMode="External"/><Relationship Id="rId8" Type="http://schemas.openxmlformats.org/officeDocument/2006/relationships/slideLayout" Target="../slideLayouts/slideLayout29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hyperlink" Target="file:///5&#32990;&#20307;&#12398;&#20999;&#26029;&#12392;&#23556;&#24433;.cg3" TargetMode="External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hyperlink" Target="file:///3&#27425;&#20803;&#29699;&#38754;&#12398;&#23556;&#24433;.cg3" TargetMode="External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image" Target="../media/image15.png"/><Relationship Id="rId7" Type="http://schemas.openxmlformats.org/officeDocument/2006/relationships/hyperlink" Target="file:///supplements/3&#27425;&#20803;&#30452;&#26041;&#20307;&#12398;&#23556;&#24433;1.cg3" TargetMode="External"/><Relationship Id="rId8" Type="http://schemas.openxmlformats.org/officeDocument/2006/relationships/hyperlink" Target="file:///supplements/3&#27425;&#20803;&#30452;&#26041;&#20307;&#12398;&#23556;&#24433;2.cg3" TargetMode="External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hyperlink" Target="file:///&#36229;&#29699;&#38754;&#12398;&#23556;&#24433;.cg3" TargetMode="External"/><Relationship Id="rId9" Type="http://schemas.openxmlformats.org/officeDocument/2006/relationships/hyperlink" Target="file:///&#36229;&#29699;&#38754;&#12398;&#23556;&#24433;.nb" TargetMode="External"/><Relationship Id="rId10" Type="http://schemas.openxmlformats.org/officeDocument/2006/relationships/hyperlink" Target="file:///&#36229;&#29699;&#38754;&#12398;&#23556;&#24433;.nb" TargetMode="External"/><Relationship Id="rId11" Type="http://schemas.openxmlformats.org/officeDocument/2006/relationships/hyperlink" Target="file:///&#36229;&#29699;&#38754;&#12398;&#23556;&#24433;.nb" TargetMode="External"/><Relationship Id="rId1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1599840"/>
            <a:ext cx="88394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次元立体の投影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超球面，超直方体，超４面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bri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研究会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11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生越　茂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§4. 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超直方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4-1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超直方体の定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743200" y="914400"/>
            <a:ext cx="3200400" cy="29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"/>
          <p:cNvGraphicFramePr/>
          <p:nvPr/>
        </p:nvGraphicFramePr>
        <p:xfrm>
          <a:off x="523800" y="3933720"/>
          <a:ext cx="8020080" cy="27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3800" y="3933720"/>
                    <a:ext cx="8020080" cy="27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1219320" y="3352680"/>
          <a:ext cx="67053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7053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3581280" y="457200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581280" y="42670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3962520"/>
            <a:ext cx="3200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05320" y="3657600"/>
            <a:ext cx="2514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304920" y="177840"/>
            <a:ext cx="3124080" cy="286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602600" y="304920"/>
            <a:ext cx="356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Question?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超直方体の頂点，辺，面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胞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（超表面上の立体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の数は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3124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219320" y="5316480"/>
          <a:ext cx="524340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5316480"/>
                    <a:ext cx="52434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4-2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超直方体の中心投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082520"/>
            <a:ext cx="3505320" cy="23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"/>
          <p:cNvGraphicFramePr/>
          <p:nvPr/>
        </p:nvGraphicFramePr>
        <p:xfrm>
          <a:off x="627120" y="3760920"/>
          <a:ext cx="4983120" cy="246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7120" y="3760920"/>
                    <a:ext cx="498312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5943600" y="3809880"/>
            <a:ext cx="2819520" cy="271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741480" y="6324480"/>
            <a:ext cx="127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超直方体の射影.cg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6"/>
          <a:srcRect l="0" t="0" r="0" b="2111"/>
          <a:stretch/>
        </p:blipFill>
        <p:spPr>
          <a:xfrm>
            <a:off x="685800" y="1082520"/>
            <a:ext cx="3429000" cy="23194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ahoma"/>
              </a:rPr>
              <a:t>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§5.  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超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</a:rPr>
              <a:t>面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5-1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超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面体の定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1560" y="3770280"/>
          <a:ext cx="809460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3770280"/>
                    <a:ext cx="809460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1828800" y="1143000"/>
            <a:ext cx="2327400" cy="26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3657600" y="2197080"/>
          <a:ext cx="152280" cy="10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2197080"/>
                    <a:ext cx="152280" cy="1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4" name="" descr=""/>
          <p:cNvPicPr/>
          <p:nvPr/>
        </p:nvPicPr>
        <p:blipFill>
          <a:blip r:embed="rId6"/>
          <a:stretch/>
        </p:blipFill>
        <p:spPr>
          <a:xfrm>
            <a:off x="5105520" y="1219320"/>
            <a:ext cx="2514600" cy="2394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828560" y="3352680"/>
            <a:ext cx="659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定義.cg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1346040" y="3352680"/>
          <a:ext cx="645012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6040" y="3352680"/>
                    <a:ext cx="645012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3581280" y="457200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2670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3962520"/>
            <a:ext cx="3200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3657600"/>
            <a:ext cx="2514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459320" y="304920"/>
            <a:ext cx="367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¿Question?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超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面体の頂点，辺，面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胞</a:t>
            </a:r>
            <a:r>
              <a:rPr b="0" lang="zh-CN" sz="2800" spc="-1" strike="noStrike">
                <a:solidFill>
                  <a:srgbClr val="333399"/>
                </a:solidFill>
                <a:latin typeface="Tahoma"/>
              </a:rPr>
              <a:t>（超表面上の立体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zh-CN" sz="3600" spc="-1" strike="noStrike">
                <a:solidFill>
                  <a:srgbClr val="333399"/>
                </a:solidFill>
                <a:latin typeface="Tahoma"/>
              </a:rPr>
              <a:t>の数は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4920" y="31240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54240" y="5423040"/>
          <a:ext cx="5630760" cy="26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4240" y="5423040"/>
                    <a:ext cx="5630760" cy="2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762120" y="228600"/>
            <a:ext cx="24620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3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3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3-2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超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面体の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(u=1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上への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中心投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973680" y="914400"/>
          <a:ext cx="48434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3680" y="914400"/>
                    <a:ext cx="48434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7238520" y="4419720"/>
            <a:ext cx="1299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５胞体の切断と射影.cg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66560" y="914400"/>
            <a:ext cx="286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[1]B,C,D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の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成分が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の時，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u=t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による断面の直投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304920" y="1143000"/>
            <a:ext cx="3124080" cy="25448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228600" y="4734000"/>
            <a:ext cx="3352680" cy="1868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92480" y="4237200"/>
            <a:ext cx="262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[2]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断面の直投影を中心投影した四角すいの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　　頂点は，線分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a’A, b’B,c’C, d’D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上にある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4605480" y="4876920"/>
            <a:ext cx="3166920" cy="17254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150080" y="5029200"/>
            <a:ext cx="122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[3]</a:t>
            </a:r>
            <a:r>
              <a:rPr b="0" lang="ja-JP" sz="1200" spc="-1" strike="noStrike">
                <a:solidFill>
                  <a:srgbClr val="ffffff"/>
                </a:solidFill>
                <a:latin typeface="Tahoma"/>
              </a:rPr>
              <a:t>超四面体の中心投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まとめ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460520" y="1752480"/>
            <a:ext cx="61527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中心投影では，形は歪むが，全体像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見える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例．超球面と外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次元空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=t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による断面が容易に求まる場合は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ri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D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で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投影を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かなりの程度 見る事が可能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§1.  3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次元立体の ２次元への投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952880" y="1371600"/>
          <a:ext cx="304812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371600"/>
                    <a:ext cx="304812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952880" y="3924360"/>
          <a:ext cx="3807000" cy="23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3924360"/>
                    <a:ext cx="380700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533520" y="1600200"/>
            <a:ext cx="4114800" cy="1800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371520" y="4343400"/>
            <a:ext cx="43527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1-1.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単位球の中心投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3200400" cy="2835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3505320" cy="300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393840" y="4191120"/>
          <a:ext cx="3421080" cy="12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3840" y="4191120"/>
                    <a:ext cx="3421080" cy="12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267080" y="4191120"/>
          <a:ext cx="4648320" cy="23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4191120"/>
                    <a:ext cx="4648320" cy="23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927360" y="6172200"/>
            <a:ext cx="1374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3次元球面の投影.cg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平面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z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=t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による断面を</a:t>
            </a:r>
            <a:br>
              <a:rPr sz="4000"/>
            </a:b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利用した中心投影の作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838080" y="2514600"/>
          <a:ext cx="7612200" cy="15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6122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1-2.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直方体の中心投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952880" y="1442880"/>
          <a:ext cx="3886200" cy="21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442880"/>
                    <a:ext cx="3886200" cy="21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4029120" cy="22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5029200" y="4564080"/>
          <a:ext cx="3657600" cy="146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4564080"/>
                    <a:ext cx="36576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304920" y="3886200"/>
            <a:ext cx="4138560" cy="23814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639320" y="6432480"/>
            <a:ext cx="1651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直方体1.cg3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,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直方体2.cg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§2.  4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次元立体の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次元への投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207040" y="1066680"/>
          <a:ext cx="325116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7040" y="1066680"/>
                    <a:ext cx="32511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5181480" y="3657600"/>
          <a:ext cx="3564000" cy="26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657600"/>
                    <a:ext cx="356400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457200" y="1295280"/>
            <a:ext cx="4324320" cy="1935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457200" y="4114800"/>
            <a:ext cx="44956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§3.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超球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340320" y="998640"/>
            <a:ext cx="2117880" cy="2430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3.1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単位超球の中心投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27160" y="3692520"/>
          <a:ext cx="8764560" cy="297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160" y="3692520"/>
                    <a:ext cx="876456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4"/>
          <a:srcRect l="0" t="0" r="0" b="1543"/>
          <a:stretch/>
        </p:blipFill>
        <p:spPr>
          <a:xfrm>
            <a:off x="380880" y="1295280"/>
            <a:ext cx="847800" cy="2297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5"/>
          <a:srcRect l="0" t="0" r="0" b="1448"/>
          <a:stretch/>
        </p:blipFill>
        <p:spPr>
          <a:xfrm>
            <a:off x="1752480" y="1144440"/>
            <a:ext cx="1047960" cy="2448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rcRect l="0" t="0" r="0" b="1364"/>
          <a:stretch/>
        </p:blipFill>
        <p:spPr>
          <a:xfrm>
            <a:off x="3048120" y="990720"/>
            <a:ext cx="1257120" cy="2601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7"/>
          <a:srcRect l="0" t="0" r="0" b="1421"/>
          <a:stretch/>
        </p:blipFill>
        <p:spPr>
          <a:xfrm>
            <a:off x="4800600" y="1095480"/>
            <a:ext cx="971640" cy="2496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952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4320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19720" y="2666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04920" y="990720"/>
            <a:ext cx="5409720" cy="2590560"/>
            <a:chOff x="304920" y="990720"/>
            <a:chExt cx="5409720" cy="2590560"/>
          </a:xfrm>
        </p:grpSpPr>
        <p:sp>
          <p:nvSpPr>
            <p:cNvPr id="260" name=""/>
            <p:cNvSpPr/>
            <p:nvPr/>
          </p:nvSpPr>
          <p:spPr>
            <a:xfrm>
              <a:off x="304920" y="990720"/>
              <a:ext cx="838080" cy="259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52480" y="990720"/>
              <a:ext cx="914040" cy="259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24080" y="990720"/>
              <a:ext cx="1218960" cy="259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0600" y="990720"/>
              <a:ext cx="914040" cy="259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V="1">
            <a:off x="7543800" y="297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327672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zh-CN" sz="1600" spc="-1" strike="noStrike">
                <a:solidFill>
                  <a:srgbClr val="ffffff"/>
                </a:solidFill>
                <a:latin typeface="Tahoma"/>
              </a:rPr>
              <a:t>の中心投影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7543440" y="12193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68360" y="91440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 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60400" y="4191120"/>
            <a:ext cx="1165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超球面の投影.cg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3280" y="4572000"/>
            <a:ext cx="1087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9"/>
              </a:rPr>
              <a:t>超球面の投影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0"/>
              </a:rPr>
              <a:t>.</a:t>
            </a:r>
            <a:r>
              <a:rPr b="0" lang="ja-JP" sz="1400" spc="-1" strike="noStrike" u="sng">
                <a:solidFill>
                  <a:srgbClr val="009999"/>
                </a:solidFill>
                <a:uFillTx/>
                <a:latin typeface="Tahoma"/>
                <a:hlinkClick r:id="rId11"/>
              </a:rPr>
              <a:t>n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超平面</a:t>
            </a: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u=t 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による断面を</a:t>
            </a:r>
            <a:br>
              <a:rPr sz="4000"/>
            </a:b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利用した中心投影の作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38080" y="2514600"/>
          <a:ext cx="7612200" cy="15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6122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gose shigeki</cp:lastModifiedBy>
  <dcterms:modified xsi:type="dcterms:W3CDTF">2012-04-24T07:00:55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