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31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20.wmf" ContentType="image/x-wmf"/>
  <Override PartName="/ppt/media/image17.png" ContentType="image/png"/>
  <Override PartName="/ppt/media/image12.wmf" ContentType="image/x-wmf"/>
  <Override PartName="/ppt/media/image13.png" ContentType="image/png"/>
  <Override PartName="/ppt/media/image33.wmf" ContentType="image/x-wmf"/>
  <Override PartName="/ppt/media/image8.wmf" ContentType="image/x-wmf"/>
  <Override PartName="/ppt/media/image30.wmf" ContentType="image/x-wmf"/>
  <Override PartName="/ppt/media/image5.wmf" ContentType="image/x-wmf"/>
  <Override PartName="/ppt/media/image32.wmf" ContentType="image/x-wmf"/>
  <Override PartName="/ppt/media/image35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10.png" ContentType="image/png"/>
  <Override PartName="/ppt/media/image1.jpeg" ContentType="image/jpeg"/>
  <Override PartName="/ppt/media/image36.png" ContentType="image/png"/>
  <Override PartName="/ppt/media/image9.png" ContentType="image/png"/>
  <Override PartName="/ppt/media/image38.png" ContentType="image/png"/>
  <Override PartName="/ppt/media/image39.wmf" ContentType="image/x-wmf"/>
  <Override PartName="/ppt/media/image6.wmf" ContentType="image/x-wmf"/>
  <Override PartName="/ppt/media/image11.png" ContentType="image/png"/>
  <Override PartName="/ppt/media/image29.wmf" ContentType="image/x-wmf"/>
  <Override PartName="/ppt/media/image3.png" ContentType="image/png"/>
  <Override PartName="/ppt/media/image26.png" ContentType="image/png"/>
  <Override PartName="/ppt/media/image25.wmf" ContentType="image/x-wmf"/>
  <Override PartName="/ppt/media/image18.wmf" ContentType="image/x-wmf"/>
  <Override PartName="/ppt/media/image2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1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2405359-66E0-46F4-A6D8-5DC75DBE88A1}" type="slidenum"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見る事ができない」というのは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=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よる断面の利用」では，出来ないと言う意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特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のときは，接ベクトル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’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一致する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次元球の断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.ggb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」は 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ogebra5.0 β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」を立ち上げ，ソフトから開く事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平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上に直線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B,A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あるので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1,P2,Q1,Q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とおる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平面と平面の交線が直線となる事もわかる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次元球の断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.ggb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」は 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ogebra5.0 β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」を立ち上げ，ソフトから開く事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合同変換を表す行列を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とすると，その第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行を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A,OB,O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と直交するベクトル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取ればよい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次元球の断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.ggb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」では定理を検証している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成分が「高さ」となり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θ,rφ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成分が「縦」と「横」になる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影が見えない」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=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上へ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正射影はゼロベクトル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44CF-DC65-4010-9EAF-BA8F19D3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BEC0-707B-4E02-86CB-1DCA64BB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F72B-2A47-4785-986E-C147854A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6600-A751-4DAD-B745-C520822D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EA196-01F3-4CE1-82AC-53D7ABF1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08F9A-3EC6-4AEC-B923-BCDBF7C7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6AD29-151E-4FFC-A5A5-31670EEC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EEF0D-3736-4AE3-90A0-B657B06C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594FF-E9A5-4A87-A3C0-A5173622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AA425-F509-4361-8C19-40EED4B5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B629B-4694-40BE-A683-44875844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1149-20B7-4DEE-BC30-5DA8B549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48A40-E638-48A9-974D-B5A41298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3512F-85E1-43C9-9014-A1881824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D4EAC-FF21-452F-8BDD-52D8D0E0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5DC24-6009-4D2F-A706-F5C439E8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DBEC0-F8B2-46B1-819B-6AF5221B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8DAF8-2D3F-4E12-9FDA-FD78F0B2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CEF3F-8AE0-4E46-9E5E-0F956A07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B1004-3C45-4F58-8954-8EB72F54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E904B-354B-4B34-A867-5B6BB932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77B68-D483-40B6-AA34-2A0B2239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F28B-B8FC-4A1B-A58D-38CA684B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22ECA-C936-4E4F-9AF9-452F9964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BAA91-6A5F-4F03-B280-DD734D79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72BBA-B0DC-4D2D-82D3-63ADED5F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D21CE-C258-4D30-A049-7A1CCB21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0DA0E-59C5-4405-8FC6-4D679BED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302F0-1972-44E8-8D6B-1AB2A26A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B3C36-2E93-4A06-8C7D-A255D61D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B003E-9E63-4987-951B-8E8AFFBF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CC755-2A65-4C75-94F0-E7950344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80BC7-9C91-475C-9D06-99B42629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BDAD-01B3-4394-A967-94FED16D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35CC9-51EE-4190-9CDC-9C4E4721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1789F-864F-4C7E-A320-1ED7FD10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95FA4-7CEF-4318-9F96-B9FA8F78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ABEBB-93D4-47D4-807D-9451AB45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88FE6-6D9B-422B-A018-D35B8628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D88E7-5ADB-427F-A76D-7165B04A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000C4-91C2-4A2E-90FD-A04AF281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A70CF-2E45-4AB9-87BB-5DC295D7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0B131-1EE5-4E21-AB4E-9082D6C9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BA2B7-917C-4410-A9CC-582768EB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A5AD-272C-4D9E-977E-2BAB24D6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325B9-3CC5-47D2-870A-FEE31423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CDB77-5D97-4B9F-8B00-EA944F66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7FDBA-6377-47A8-8246-1FCE7E3C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40036-0CA8-40CF-99CC-09D7B93B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EC2A3-A443-46F0-8C85-5452329F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59148-2643-41FE-9AA0-BEB16E37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4E964-C22D-4BB4-B150-8E75C92B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88480-729C-433F-968A-ACB11EC2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2DE0D-9608-4371-869D-527C3E59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FC4BD-ED31-4F3B-82EC-CE53D579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D057-020C-4EB5-B4F3-D5222EF4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0FEB9-EA7A-433E-84D5-3041E820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8D31-888D-47DB-924A-DC955149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25F8-6B28-4A7B-899B-FEF0C6E3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8063-CFA0-4FF8-B1BD-CF9D8BB6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91DA-CA75-490A-AC75-8D030D86C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26B4-D6FE-4C22-A6FA-B5372E480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A39F-BDB7-4C6D-9392-922549FD8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2B5A-3AF5-4162-857B-0E1FFD6C5F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973A-2B0B-430B-9AA0-C73D6BCF18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27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9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9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hyperlink" Target="file:///4&#27425;&#20803;&#29699;&#12398;&#26029;&#38754;(&#24179;&#38754;).cg3" TargetMode="External"/><Relationship Id="rId5" Type="http://schemas.openxmlformats.org/officeDocument/2006/relationships/hyperlink" Target="file:///4&#27425;&#20803;&#29699;&#12398;&#26029;&#38754;(&#24179;&#38754;).cg3" TargetMode="External"/><Relationship Id="rId6" Type="http://schemas.openxmlformats.org/officeDocument/2006/relationships/hyperlink" Target="file:///4&#27425;&#20803;&#29699;&#12398;&#26029;&#38754;(&#24179;&#38754;).cg3" TargetMode="External"/><Relationship Id="rId7" Type="http://schemas.openxmlformats.org/officeDocument/2006/relationships/hyperlink" Target="file:///4&#27425;&#20803;&#29699;&#12398;&#26029;&#38754;(&#24179;&#38754;).cg3" TargetMode="External"/><Relationship Id="rId8" Type="http://schemas.openxmlformats.org/officeDocument/2006/relationships/hyperlink" Target="file:///4&#27425;&#20803;&#29699;&#12398;&#26029;&#38754;(&#24179;&#38754;).cg3" TargetMode="External"/><Relationship Id="rId9" Type="http://schemas.openxmlformats.org/officeDocument/2006/relationships/image" Target="../media/image13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27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hyperlink" Target="file:///4&#27425;&#20803;&#29699;&#12398;&#26029;&#38754;(&#24179;&#38754;).cg3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29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3.wmf"/><Relationship Id="rId15" Type="http://schemas.openxmlformats.org/officeDocument/2006/relationships/hyperlink" Target="file:///&#23616;&#25152;&#30340;&#12395;&#12399;euclid.cg3" TargetMode="External"/><Relationship Id="rId16" Type="http://schemas.openxmlformats.org/officeDocument/2006/relationships/slideLayout" Target="../slideLayouts/slideLayout29.xml"/><Relationship Id="rId1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1599840"/>
            <a:ext cx="88394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+y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+z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+u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=1 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上の初等幾何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直投影＆スライスして見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bri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研究会　　生越　茂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011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日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419040" y="304920"/>
          <a:ext cx="5600880" cy="40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04920"/>
                    <a:ext cx="5600880" cy="40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533520" y="4495680"/>
            <a:ext cx="2286000" cy="21700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3657600" y="4646520"/>
            <a:ext cx="2286000" cy="16779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6472080" y="2666880"/>
            <a:ext cx="2138400" cy="19623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"/>
          <a:srcRect l="-459" t="0" r="0" b="0"/>
          <a:stretch/>
        </p:blipFill>
        <p:spPr>
          <a:xfrm>
            <a:off x="6400800" y="380880"/>
            <a:ext cx="2373480" cy="20019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8077320" y="198108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u=0</a:t>
            </a: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に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よる断面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177760" y="4191120"/>
            <a:ext cx="62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u=c</a:t>
            </a: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に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よる断面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029480" y="632448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平面と右上図との数学的対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737400" y="4800600"/>
          <a:ext cx="1536480" cy="48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7400" y="4800600"/>
                    <a:ext cx="15364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2198160" y="6280200"/>
            <a:ext cx="315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まと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1683720" y="1996920"/>
            <a:ext cx="5954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超球面は　局所的にはユークリッド的であり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大局的には球面幾何が成り立つ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もしかすると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我々の宇宙は超球面かもしれない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7153200" cy="1676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62120" y="2895480"/>
            <a:ext cx="746748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§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超球面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z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の断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53920" y="1600200"/>
          <a:ext cx="6696360" cy="97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3920" y="1600200"/>
                    <a:ext cx="669636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1219320" y="5105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766640" y="48769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§2.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超球面上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の直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521320" y="1219320"/>
          <a:ext cx="3220920" cy="25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1320" y="1219320"/>
                    <a:ext cx="3220920" cy="25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1752480" y="3886200"/>
          <a:ext cx="5715000" cy="26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886200"/>
                    <a:ext cx="571500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380880" y="1219320"/>
            <a:ext cx="495324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§3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超球面上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の平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375000" y="1824120"/>
          <a:ext cx="5443560" cy="37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75000" y="1824120"/>
                    <a:ext cx="5443560" cy="37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457200" y="1143000"/>
            <a:ext cx="2646360" cy="26668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457200" y="4043520"/>
            <a:ext cx="266688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4247" t="0" r="0" b="0"/>
          <a:stretch/>
        </p:blipFill>
        <p:spPr>
          <a:xfrm>
            <a:off x="665280" y="1371600"/>
            <a:ext cx="4059000" cy="314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5083200" y="1752480"/>
          <a:ext cx="3527280" cy="274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83200" y="1752480"/>
                    <a:ext cx="3527280" cy="27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3611520" y="6172200"/>
            <a:ext cx="2714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-&gt; </a:t>
            </a:r>
            <a:r>
              <a:rPr b="0" lang="ja-JP" sz="12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4</a:t>
            </a:r>
            <a:r>
              <a:rPr b="0" lang="ja-JP" sz="1200" spc="-1" strike="noStrike" u="sng">
                <a:solidFill>
                  <a:srgbClr val="009999"/>
                </a:solidFill>
                <a:uFillTx/>
                <a:latin typeface="Tahoma"/>
                <a:hlinkClick r:id="rId5"/>
              </a:rPr>
              <a:t>次元球の断面</a:t>
            </a:r>
            <a:r>
              <a:rPr b="0" lang="ja-JP" sz="1200" spc="-1" strike="noStrike" u="sng">
                <a:solidFill>
                  <a:srgbClr val="009999"/>
                </a:solidFill>
                <a:uFillTx/>
                <a:latin typeface="Tahoma"/>
                <a:hlinkClick r:id="rId6"/>
              </a:rPr>
              <a:t>(</a:t>
            </a:r>
            <a:r>
              <a:rPr b="0" lang="ja-JP" sz="1200" spc="-1" strike="noStrike" u="sng">
                <a:solidFill>
                  <a:srgbClr val="009999"/>
                </a:solidFill>
                <a:uFillTx/>
                <a:latin typeface="Tahoma"/>
                <a:hlinkClick r:id="rId7"/>
              </a:rPr>
              <a:t>平面</a:t>
            </a:r>
            <a:r>
              <a:rPr b="0" lang="ja-JP" sz="1200" spc="-1" strike="noStrike" u="sng">
                <a:solidFill>
                  <a:srgbClr val="009999"/>
                </a:solidFill>
                <a:uFillTx/>
                <a:latin typeface="Tahoma"/>
                <a:hlinkClick r:id="rId8"/>
              </a:rPr>
              <a:t>).cg3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,  4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次元球の断面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.gg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9"/>
          <a:srcRect l="0" t="0" r="4256" b="1044"/>
          <a:stretch/>
        </p:blipFill>
        <p:spPr>
          <a:xfrm>
            <a:off x="674640" y="1143000"/>
            <a:ext cx="4049640" cy="341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901800" y="5257800"/>
          <a:ext cx="7569000" cy="457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01800" y="5257800"/>
                    <a:ext cx="7569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762120" y="5105520"/>
            <a:ext cx="784836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3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914400" y="596880"/>
          <a:ext cx="6934320" cy="16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96880"/>
                    <a:ext cx="6934320" cy="16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685800" y="2819520"/>
            <a:ext cx="3505320" cy="27669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791320" y="6019920"/>
            <a:ext cx="1600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=B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=C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=0</a:t>
            </a: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の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23520" y="6019920"/>
            <a:ext cx="210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ja-JP" sz="1400" spc="-1" strike="noStrike" baseline="-25000">
                <a:solidFill>
                  <a:srgbClr val="ffffff"/>
                </a:solidFill>
                <a:latin typeface="Tahoma"/>
              </a:rPr>
              <a:t>u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,B</a:t>
            </a:r>
            <a:r>
              <a:rPr b="0" lang="ja-JP" sz="1400" spc="-1" strike="noStrike" baseline="-25000">
                <a:solidFill>
                  <a:srgbClr val="ffffff"/>
                </a:solidFill>
                <a:latin typeface="Tahoma"/>
              </a:rPr>
              <a:t>u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,C</a:t>
            </a:r>
            <a:r>
              <a:rPr b="0" lang="ja-JP" sz="1400" spc="-1" strike="noStrike" baseline="-25000">
                <a:solidFill>
                  <a:srgbClr val="ffffff"/>
                </a:solidFill>
                <a:latin typeface="Tahoma"/>
              </a:rPr>
              <a:t>u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のいずれかが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でない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4952880" y="2841480"/>
            <a:ext cx="3249720" cy="29307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8057160" y="1981080"/>
            <a:ext cx="65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Tahoma"/>
                <a:hlinkClick r:id="rId5"/>
              </a:rPr>
              <a:t>平面.cg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774720" y="1465200"/>
          <a:ext cx="7313760" cy="17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720" y="1465200"/>
                    <a:ext cx="731376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390600" y="3252960"/>
            <a:ext cx="3267000" cy="291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4003560" y="3573360"/>
          <a:ext cx="4716720" cy="206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03560" y="3573360"/>
                    <a:ext cx="4716720" cy="20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23720" y="304920"/>
          <a:ext cx="8510760" cy="87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3720" y="304920"/>
                    <a:ext cx="851076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2611800" y="5842080"/>
            <a:ext cx="6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u=t</a:t>
            </a: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上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962520" y="5867280"/>
          <a:ext cx="4790880" cy="747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62520" y="5867280"/>
                    <a:ext cx="47908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§4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超球面上の平面に於ける三角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51000" y="914400"/>
            <a:ext cx="3687480" cy="278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0" name=""/>
          <p:cNvGraphicFramePr/>
          <p:nvPr/>
        </p:nvGraphicFramePr>
        <p:xfrm>
          <a:off x="4402080" y="1371600"/>
          <a:ext cx="4361040" cy="150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02080" y="1371600"/>
                    <a:ext cx="436104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774720" y="3786120"/>
          <a:ext cx="7710480" cy="29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74720" y="3786120"/>
                    <a:ext cx="771048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1030320" y="335268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04920" y="5334120"/>
            <a:ext cx="103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808080"/>
                </a:solidFill>
                <a:latin typeface="Tahoma"/>
              </a:rPr>
              <a:t>4</a:t>
            </a:r>
            <a:r>
              <a:rPr b="0" lang="ja-JP" sz="1000" spc="-1" strike="noStrike">
                <a:solidFill>
                  <a:srgbClr val="808080"/>
                </a:solidFill>
                <a:latin typeface="Tahoma"/>
              </a:rPr>
              <a:t>次元球の断面</a:t>
            </a:r>
            <a:r>
              <a:rPr b="0" lang="ja-JP" sz="1000" spc="-1" strike="noStrike">
                <a:solidFill>
                  <a:srgbClr val="808080"/>
                </a:solidFill>
                <a:latin typeface="Tahoma"/>
              </a:rPr>
              <a:t>.ggb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73040" y="3962520"/>
            <a:ext cx="2422440" cy="26334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§5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超球面は，局所的に ユークリッド空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276720" y="1143000"/>
          <a:ext cx="5410080" cy="6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143000"/>
                    <a:ext cx="54100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423720" y="914400"/>
            <a:ext cx="2319480" cy="274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"/>
          <p:cNvGraphicFramePr/>
          <p:nvPr/>
        </p:nvGraphicFramePr>
        <p:xfrm>
          <a:off x="4173480" y="1981080"/>
          <a:ext cx="3067200" cy="35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73480" y="1981080"/>
                    <a:ext cx="3067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3276720" y="2590920"/>
          <a:ext cx="495756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2590920"/>
                    <a:ext cx="49575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776840" y="3048120"/>
          <a:ext cx="1531800" cy="36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76840" y="3048120"/>
                    <a:ext cx="15318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3276720" y="3581280"/>
          <a:ext cx="4724280" cy="646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3581280"/>
                    <a:ext cx="472428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213120" y="990720"/>
            <a:ext cx="76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,B,C</a:t>
            </a: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は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u=0</a:t>
            </a: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上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9120" y="4038480"/>
            <a:ext cx="97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は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u=d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上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122640" y="4664160"/>
          <a:ext cx="5548320" cy="1751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22640" y="4664160"/>
                    <a:ext cx="554832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6793920" y="6507000"/>
            <a:ext cx="1665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Tahoma"/>
                <a:hlinkClick r:id="rId15"/>
              </a:rPr>
              <a:t>局所的にはユークリッド空間.cg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gose shigeki</cp:lastModifiedBy>
  <dcterms:modified xsi:type="dcterms:W3CDTF">2012-04-16T15:21:31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