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45.png" ContentType="image/png"/>
  <Override PartName="/ppt/media/image111.wmf" ContentType="image/x-wmf"/>
  <Override PartName="/ppt/media/image44.png" ContentType="image/png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100.wmf" ContentType="image/x-wmf"/>
  <Override PartName="/ppt/media/image127.png" ContentType="image/png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95.wmf" ContentType="image/x-wmf"/>
  <Override PartName="/ppt/media/image27.wmf" ContentType="image/x-wmf"/>
  <Override PartName="/ppt/media/image93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14.png" ContentType="image/png"/>
  <Override PartName="/ppt/media/image38.wmf" ContentType="image/x-wmf"/>
  <Override PartName="/ppt/media/image50.wmf" ContentType="image/x-wmf"/>
  <Override PartName="/ppt/media/image147.wmf" ContentType="image/x-wmf"/>
  <Override PartName="/ppt/media/image28.png" ContentType="image/png"/>
  <Override PartName="/ppt/media/image86.wmf" ContentType="image/x-wmf"/>
  <Override PartName="/ppt/media/image39.wmf" ContentType="image/x-wmf"/>
  <Override PartName="/ppt/media/image32.wmf" ContentType="image/x-wmf"/>
  <Override PartName="/ppt/media/image40.wmf" ContentType="image/x-wmf"/>
  <Override PartName="/ppt/media/image137.wmf" ContentType="image/x-wmf"/>
  <Override PartName="/ppt/media/image8.wmf" ContentType="image/x-wmf"/>
  <Override PartName="/ppt/media/image30.wmf" ContentType="image/x-wmf"/>
  <Override PartName="/ppt/media/image18.png" ContentType="image/png"/>
  <Override PartName="/ppt/media/image153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71.wmf" ContentType="image/x-wmf"/>
  <Override PartName="/ppt/media/image49.png" ContentType="image/png"/>
  <Override PartName="/ppt/media/image52.wmf" ContentType="image/x-wmf"/>
  <Override PartName="/ppt/media/image149.wmf" ContentType="image/x-wmf"/>
  <Override PartName="/ppt/media/image142.png" ContentType="image/png"/>
  <Override PartName="/ppt/media/image48.wmf" ContentType="image/x-wmf"/>
  <Override PartName="/ppt/media/image143.wmf" ContentType="image/x-wmf"/>
  <Override PartName="/ppt/media/image51.wmf" ContentType="image/x-wmf"/>
  <Override PartName="/ppt/media/image148.wmf" ContentType="image/x-wmf"/>
  <Override PartName="/ppt/media/image144.png" ContentType="image/png"/>
  <Override PartName="/ppt/media/image145.wmf" ContentType="image/x-wmf"/>
  <Override PartName="/ppt/media/image146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56.wmf" ContentType="image/x-wmf"/>
  <Override PartName="/ppt/media/image109.wmf" ContentType="image/x-wmf"/>
  <Override PartName="/ppt/media/image151.wmf" ContentType="image/x-wmf"/>
  <Override PartName="/ppt/media/image129.png" ContentType="image/png"/>
  <Override PartName="/ppt/media/image152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154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131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47.png" ContentType="image/png"/>
  <Override PartName="/ppt/media/image82.wmf" ContentType="image/x-wmf"/>
  <Override PartName="/ppt/media/image14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63.png" ContentType="image/png"/>
  <Override PartName="/ppt/media/image130.wmf" ContentType="image/x-wmf"/>
  <Override PartName="/ppt/media/image79.wmf" ContentType="image/x-wmf"/>
  <Override PartName="/ppt/media/image59.wmf" ContentType="image/x-wmf"/>
  <Override PartName="/ppt/media/image110.wmf" ContentType="image/x-wmf"/>
  <Override PartName="/ppt/media/image119.wmf" ContentType="image/x-wmf"/>
  <Override PartName="/ppt/media/image90.wmf" ContentType="image/x-wmf"/>
  <Override PartName="/ppt/media/image22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53.png" ContentType="image/png"/>
  <Override PartName="/ppt/media/image120.wmf" ContentType="image/x-wmf"/>
  <Override PartName="/ppt/media/image7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19.wmf" ContentType="image/x-wmf"/>
  <Override PartName="/ppt/media/image87.wmf" ContentType="image/x-wmf"/>
  <Override PartName="/ppt/media/image116.png" ContentType="image/png"/>
  <Override PartName="/ppt/media/image8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5B86-A71E-4BDB-8080-D608C21B14D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ogebra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を見せる前に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oGebr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　グラフを描いて対称性から導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のあと 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いい話」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する．明かりをつける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答は アニメーショ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答は アニメーショ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Y=x,x^2,x^3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グラフも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答は アニメーショ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Y=x,x^2,x^3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グラフも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答は アニメーショ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Y=x,x^2,x^3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グラフも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答は アニメーショ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Y=x,x^2,x^3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グラフも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ogebr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まず見せてから　解答を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ファイルを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ファイルを見せ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^x+e^(-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x,e^(-x)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グラフを描き，そのあと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e^x+e^-x-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グラフと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y=1/2x^2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比べ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23B9-DF50-49F8-98E5-44716901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998-36D5-45A1-B04F-829C4BC5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109-5CD7-44E1-A0A6-BCA9036E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DBE-4B95-491F-82B0-69C4404A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FA3B-FEC3-477D-917E-033312C3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3EB1-4D5B-4011-9B0E-34729A2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C467-B541-4CED-A9B4-4C82B807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962F-3DD9-45D9-88E4-0D6F7177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904F-0163-4351-8592-45D830CD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91A2-5A9B-4E61-BC8B-E1C4DC7E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E853-7504-4072-9053-8D5A2312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0C6-DA5D-462A-A643-AB5AA9E2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7633-A121-45C3-A5BC-89AB157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B4F5-189A-4407-920E-B1FF378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1407-936C-49CB-81E5-6905970D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54A-1CC7-4959-B75F-D44F7CAE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E89C-B605-4E95-B102-0152C00B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9ECB0-9FE7-42EF-8F57-68D84EDB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DEF4-D7BB-4454-930F-10777379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E788-667E-43CC-92FC-8554E579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4E14-B820-4DB4-9871-22CAAC3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9611-9F81-4F78-96C0-4278EED1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42C-DA1A-4BBF-83CC-F48B352B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A5CA-448D-4B1A-AD14-294AE9FE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FF2E-8CB5-4508-95F0-59E1E60F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E2F78-E4F1-49A5-9A09-3ED6679A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5FB8-D85E-4F0F-A521-F5C2532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4FB7-F561-4E2F-9FFE-CE0F0931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352E-6695-4734-88E8-09C8A246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28C8-8AE4-4C8D-B996-810B6E8C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8952-40B8-451C-B719-6CE94CD4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60152-F7D7-4230-A633-9A748718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C235B-09C4-4FDB-81CC-D10F2CCA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5D6-DC59-4946-897F-553B5CE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21A6C-978B-4BE6-B605-44CAEC78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0147-DAC1-4E96-97F9-2329ECC6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80FC-909A-4821-AB73-E03A663A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B10C3-3F43-4F1A-A855-5E7B54A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7812C-7F9C-4F56-8E29-330A4754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DE4C-A8E7-46A8-AE32-403938D0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22A0-B58C-44F5-8705-7E87E3AF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5205E-8FF7-4A55-A5EC-0E008928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667C8-142B-4FC7-A113-52ED8115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FF5E8-5C3A-4CE0-82CF-C7F7E40F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D67-84AB-4ADE-9ADA-C0D1DB3B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1F4B3-C633-478D-B11A-095A549C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B75DE-BE0A-4092-AEC7-2160EC20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8B99C-7AC8-4918-9E07-F409AD96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021E1-E8D4-4753-8ADE-07D525E6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8A279-71E2-4624-B953-D9C54F97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70A7B1-D754-4A02-9181-549683CF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E17097-3ABF-40E8-917B-39D4C7C9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A5CD5-1752-42A2-8FC1-F843B3F9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5A7B8-E0F7-4C84-B88F-2390959B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2E95C-D4A8-4592-A38E-0CC8FFF8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EEE-9B5F-46D3-A623-B9B531E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D7B04-E610-4D11-9CD0-A07499F2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C51-E532-473D-9606-7D8A3F4A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17B-73C7-46A4-94BB-8E4D240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972-0381-4BF7-B81B-D47FB0B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028F-CFC5-40A1-9B64-B22D0759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B2C8-6315-461A-8B78-1B1C1854A9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5F77-3943-4F38-B510-6EA795B22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7FEE-EE5A-40B9-A8E0-5A9D8B1AF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CF6-E3F6-4D00-BEF7-3E73469883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hyperlink" Target="file:///cos&amp;ex.mn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hyperlink" Target="file:///&#32244;&#32722;1_1.ggb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hyperlink" Target="file:///&#32244;&#32722;1_3.ggb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hyperlink" Target="file:///e&#12398;x&#20055;&#12398;&#26997;&#38480;.ggb" TargetMode="External"/><Relationship Id="rId8" Type="http://schemas.openxmlformats.org/officeDocument/2006/relationships/hyperlink" Target="file:///e&#12398;x&#20055;&#12398;&#26997;&#38480;.ggb" TargetMode="External"/><Relationship Id="rId9" Type="http://schemas.openxmlformats.org/officeDocument/2006/relationships/hyperlink" Target="file:///e&#12398;x&#20055;&#12398;&#26997;&#38480;.ggb" TargetMode="External"/><Relationship Id="rId10" Type="http://schemas.openxmlformats.org/officeDocument/2006/relationships/hyperlink" Target="file:///cos&amp;ex.mn" TargetMode="External"/><Relationship Id="rId11" Type="http://schemas.openxmlformats.org/officeDocument/2006/relationships/hyperlink" Target="file:///cos&amp;ex.mn" TargetMode="External"/><Relationship Id="rId12" Type="http://schemas.openxmlformats.org/officeDocument/2006/relationships/hyperlink" Target="file:///cos&amp;ex.mn" TargetMode="External"/><Relationship Id="rId13" Type="http://schemas.openxmlformats.org/officeDocument/2006/relationships/hyperlink" Target="file:///ex&#12398;&#26997;&#38480;3.ggb" TargetMode="External"/><Relationship Id="rId14" Type="http://schemas.openxmlformats.org/officeDocument/2006/relationships/hyperlink" Target="file:///ex&#12398;&#26997;&#38480;3.ggb" TargetMode="External"/><Relationship Id="rId15" Type="http://schemas.openxmlformats.org/officeDocument/2006/relationships/hyperlink" Target="file:///ex&#12398;&#26997;&#38480;3.ggb" TargetMode="External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0.wmf"/><Relationship Id="rId7" Type="http://schemas.openxmlformats.org/officeDocument/2006/relationships/hyperlink" Target="file:///ex&#12392;logx&#12398;&#26997;&#38480;.ggb" TargetMode="External"/><Relationship Id="rId8" Type="http://schemas.openxmlformats.org/officeDocument/2006/relationships/hyperlink" Target="file:///ex&#12392;logx&#12398;&#26997;&#38480;.ggb" TargetMode="External"/><Relationship Id="rId9" Type="http://schemas.openxmlformats.org/officeDocument/2006/relationships/hyperlink" Target="file:///ex&#12392;logx&#12398;&#26997;&#38480;.ggb" TargetMode="External"/><Relationship Id="rId10" Type="http://schemas.openxmlformats.org/officeDocument/2006/relationships/hyperlink" Target="file:///ex&#12392;logx&#12398;&#26997;&#38480;.ggb" TargetMode="External"/><Relationship Id="rId11" Type="http://schemas.openxmlformats.org/officeDocument/2006/relationships/hyperlink" Target="file:///ex&#12392;logx&#12398;&#26997;&#38480;.ggb" TargetMode="External"/><Relationship Id="rId12" Type="http://schemas.openxmlformats.org/officeDocument/2006/relationships/hyperlink" Target="file:///ex&#12392;logx&#12398;&#26997;&#38480;.ggb" TargetMode="External"/><Relationship Id="rId13" Type="http://schemas.openxmlformats.org/officeDocument/2006/relationships/hyperlink" Target="file:///logx&#12398;&#26997;&#38480;.ggb" TargetMode="External"/><Relationship Id="rId14" Type="http://schemas.openxmlformats.org/officeDocument/2006/relationships/hyperlink" Target="file:///logx&#12398;&#26997;&#38480;.ggb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image" Target="../media/image5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image" Target="../media/image6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4.wmf"/><Relationship Id="rId10" Type="http://schemas.openxmlformats.org/officeDocument/2006/relationships/hyperlink" Target="file:///ex&#12392;logx&#12398;&#24494;&#20998;.ggb" TargetMode="External"/><Relationship Id="rId11" Type="http://schemas.openxmlformats.org/officeDocument/2006/relationships/hyperlink" Target="file:///ex&#12392;logx&#12398;&#24494;&#20998;.ggb" TargetMode="External"/><Relationship Id="rId12" Type="http://schemas.openxmlformats.org/officeDocument/2006/relationships/hyperlink" Target="file:///ex&#12392;logx&#12398;&#24494;&#20998;.ggb" TargetMode="External"/><Relationship Id="rId13" Type="http://schemas.openxmlformats.org/officeDocument/2006/relationships/hyperlink" Target="file:///ex&#12392;logx&#12398;&#24494;&#20998;.ggb" TargetMode="External"/><Relationship Id="rId14" Type="http://schemas.openxmlformats.org/officeDocument/2006/relationships/hyperlink" Target="file:///ex&#12392;logx&#12398;&#24494;&#20998;.ggb" TargetMode="External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9.wmf"/><Relationship Id="rId1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hyperlink" Target="file:///&#12385;&#12423;&#12387;&#12392;&#12356;&#12356;e&#12398;&#35441;.pdf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4.wm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3.wmf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5.wmf"/><Relationship Id="rId3" Type="http://schemas.openxmlformats.org/officeDocument/2006/relationships/image" Target="../media/image116.png"/><Relationship Id="rId4" Type="http://schemas.openxmlformats.org/officeDocument/2006/relationships/hyperlink" Target="file:///&#32244;&#32722;3_7.ggb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8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5.wmf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6.wmf"/><Relationship Id="rId3" Type="http://schemas.openxmlformats.org/officeDocument/2006/relationships/image" Target="../media/image1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8.wmf"/><Relationship Id="rId6" Type="http://schemas.openxmlformats.org/officeDocument/2006/relationships/hyperlink" Target="file:///&#12525;&#12500;&#12479;&#12523;.ggb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7.wmf"/><Relationship Id="rId3" Type="http://schemas.openxmlformats.org/officeDocument/2006/relationships/image" Target="../media/image12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2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9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image" Target="../media/image142.png"/><Relationship Id="rId6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3.wmf"/><Relationship Id="rId3" Type="http://schemas.openxmlformats.org/officeDocument/2006/relationships/image" Target="../media/image144.png"/><Relationship Id="rId4" Type="http://schemas.openxmlformats.org/officeDocument/2006/relationships/hyperlink" Target="file:///taylor%20series.mn" TargetMode="External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7.wmf"/><Relationship Id="rId3" Type="http://schemas.openxmlformats.org/officeDocument/2006/relationships/hyperlink" Target="file:///taylor%20series.mn" TargetMode="Externa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0.wmf"/><Relationship Id="rId9" Type="http://schemas.openxmlformats.org/officeDocument/2006/relationships/hyperlink" Target="file:///taylor%20series.mn" TargetMode="External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hyperlink" Target="file:///sin.ggb" TargetMode="External"/><Relationship Id="rId1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3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5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極限と微分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２０１０年河合塾立川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生越　茂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ttp://mixedmos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68200" y="443700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ja-JP" sz="1800" spc="-1" strike="noStrike">
                <a:solidFill>
                  <a:srgbClr val="ffffff"/>
                </a:solidFill>
                <a:latin typeface="Tahoma"/>
              </a:rPr>
              <a:t>ogose    shige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2268360" y="115920"/>
          <a:ext cx="445140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5920"/>
                    <a:ext cx="445140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870120" y="3573360"/>
            <a:ext cx="7373880" cy="304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684360" y="1197000"/>
          <a:ext cx="7848360" cy="22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1197000"/>
                    <a:ext cx="7848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2195640" y="1700280"/>
            <a:ext cx="63370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627280" y="2637000"/>
            <a:ext cx="4321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08680" y="6553080"/>
            <a:ext cx="110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cos&amp;ex.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演習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332000" y="1484280"/>
            <a:ext cx="2592360" cy="4390560"/>
            <a:chOff x="1332000" y="1484280"/>
            <a:chExt cx="2592360" cy="4390560"/>
          </a:xfrm>
        </p:grpSpPr>
        <p:graphicFrame>
          <p:nvGraphicFramePr>
            <p:cNvPr id="336" name=""/>
            <p:cNvGraphicFramePr/>
            <p:nvPr/>
          </p:nvGraphicFramePr>
          <p:xfrm>
            <a:off x="1332000" y="2707920"/>
            <a:ext cx="2305080" cy="73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2707920"/>
                      <a:ext cx="2305080" cy="73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8" name=""/>
            <p:cNvGraphicFramePr/>
            <p:nvPr/>
          </p:nvGraphicFramePr>
          <p:xfrm>
            <a:off x="1332000" y="3823920"/>
            <a:ext cx="1584000" cy="79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32000" y="3823920"/>
                      <a:ext cx="1584000" cy="79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0" name=""/>
            <p:cNvGraphicFramePr/>
            <p:nvPr/>
          </p:nvGraphicFramePr>
          <p:xfrm>
            <a:off x="1332000" y="1484280"/>
            <a:ext cx="1695240" cy="807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32000" y="1484280"/>
                      <a:ext cx="1695240" cy="80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2" name=""/>
            <p:cNvGraphicFramePr/>
            <p:nvPr/>
          </p:nvGraphicFramePr>
          <p:xfrm>
            <a:off x="1332000" y="5095440"/>
            <a:ext cx="2592360" cy="77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32000" y="5095440"/>
                      <a:ext cx="2592360" cy="77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187280" y="260280"/>
          <a:ext cx="605016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60280"/>
                    <a:ext cx="605016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3492360" y="333360"/>
            <a:ext cx="3672000" cy="17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3284640"/>
            <a:ext cx="5761080" cy="33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20640" y="6308640"/>
            <a:ext cx="1050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練習1_1.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250920" y="549360"/>
          <a:ext cx="8767800" cy="53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49360"/>
                    <a:ext cx="876780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3419640" y="476280"/>
            <a:ext cx="554508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2708280"/>
            <a:ext cx="7416720" cy="316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488880" y="333360"/>
          <a:ext cx="280692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33360"/>
                    <a:ext cx="28069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111320" y="1773360"/>
          <a:ext cx="65070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773360"/>
                    <a:ext cx="6507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84360" y="3429000"/>
          <a:ext cx="7115040" cy="103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429000"/>
                    <a:ext cx="711504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2916360" y="476280"/>
            <a:ext cx="647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429000"/>
            <a:ext cx="7200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42920" y="1773360"/>
            <a:ext cx="65534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584480" y="6093000"/>
            <a:ext cx="102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練習1-3.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258840" y="189000"/>
          <a:ext cx="8412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840" y="189000"/>
                    <a:ext cx="8412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290520" y="1341360"/>
          <a:ext cx="874224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520" y="1341360"/>
                    <a:ext cx="874224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55640" y="4076640"/>
          <a:ext cx="7272360" cy="307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076640"/>
                    <a:ext cx="727236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3635280" y="189000"/>
            <a:ext cx="5040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1268280"/>
            <a:ext cx="86421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2276640"/>
            <a:ext cx="6769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3141720"/>
            <a:ext cx="4752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4149720"/>
            <a:ext cx="7201080" cy="27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指数関数の極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258920" y="1413000"/>
          <a:ext cx="6912000" cy="23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13000"/>
                    <a:ext cx="6912000" cy="23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755640" y="260280"/>
          <a:ext cx="777708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77708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5292720" y="2932200"/>
            <a:ext cx="3187800" cy="3368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539640" y="2852640"/>
            <a:ext cx="3218040" cy="352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"/>
          <p:cNvGraphicFramePr/>
          <p:nvPr/>
        </p:nvGraphicFramePr>
        <p:xfrm>
          <a:off x="4140360" y="4292640"/>
          <a:ext cx="7300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4292640"/>
                    <a:ext cx="7300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115040" y="6553080"/>
            <a:ext cx="73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e</a:t>
            </a:r>
            <a:r>
              <a:rPr b="0" lang="en-US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8"/>
              </a:rPr>
              <a:t>x</a:t>
            </a:r>
            <a:r>
              <a:rPr b="0" lang="zh-CN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9"/>
              </a:rPr>
              <a:t>の極限.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6553080"/>
            <a:ext cx="101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cos&amp;e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1"/>
              </a:rPr>
              <a:t>x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2"/>
              </a:rPr>
              <a:t>.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70800" y="6553080"/>
            <a:ext cx="582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e</a:t>
            </a:r>
            <a:r>
              <a:rPr b="0" lang="en-US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4"/>
              </a:rPr>
              <a:t>x</a:t>
            </a:r>
            <a:r>
              <a:rPr b="0" lang="zh-CN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5"/>
              </a:rPr>
              <a:t>の極限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3816360" cy="375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324000" y="115920"/>
          <a:ext cx="8607240" cy="23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8607240" cy="23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3671640" cy="30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4427640" y="5373720"/>
          <a:ext cx="5032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373720"/>
                    <a:ext cx="503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2959920" y="6453360"/>
            <a:ext cx="1006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e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8"/>
              </a:rPr>
              <a:t>x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9"/>
              </a:rPr>
              <a:t>と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0"/>
              </a:rPr>
              <a:t>logx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1"/>
              </a:rPr>
              <a:t>の極限</a:t>
            </a:r>
            <a:r>
              <a:rPr b="0" lang="ja-JP" sz="1400" spc="-1" strike="noStrike" u="sng" baseline="30000">
                <a:solidFill>
                  <a:srgbClr val="009999"/>
                </a:solidFill>
                <a:uFillTx/>
                <a:latin typeface="Tahoma"/>
                <a:hlinkClick r:id="rId12"/>
              </a:rPr>
              <a:t>.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76160" y="6381720"/>
            <a:ext cx="85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logx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の極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395280" y="907920"/>
          <a:ext cx="272736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7920"/>
                    <a:ext cx="272736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539640" y="3500280"/>
          <a:ext cx="3314880" cy="18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500280"/>
                    <a:ext cx="331488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284720" y="692280"/>
            <a:ext cx="4390920" cy="42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395280" y="115920"/>
          <a:ext cx="6267600" cy="5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15920"/>
                    <a:ext cx="62676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39640" y="5229360"/>
          <a:ext cx="5761080" cy="628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5229360"/>
                    <a:ext cx="576108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目次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角関数の極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指数関数，対数関数の極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主要部分に注目す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ロピタルの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次近似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Taylo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展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179280" y="533520"/>
          <a:ext cx="882036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33520"/>
                    <a:ext cx="882036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179280" y="3540240"/>
          <a:ext cx="8747280" cy="14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540240"/>
                    <a:ext cx="8747280" cy="14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395280" y="5524560"/>
          <a:ext cx="814860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5524560"/>
                    <a:ext cx="81486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349200" y="1582560"/>
          <a:ext cx="8524800" cy="134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00" y="1582560"/>
                    <a:ext cx="85248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480240" y="92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同値性の証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指数・対数関数の微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24000" y="836640"/>
          <a:ext cx="8529480" cy="116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5294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941400" y="3284640"/>
          <a:ext cx="2838600" cy="24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1400" y="3284640"/>
                    <a:ext cx="283860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324000" y="5950080"/>
          <a:ext cx="252072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5950080"/>
                    <a:ext cx="25207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4500720" y="2349360"/>
            <a:ext cx="4502160" cy="413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0" name=""/>
          <p:cNvGraphicFramePr/>
          <p:nvPr/>
        </p:nvGraphicFramePr>
        <p:xfrm>
          <a:off x="119160" y="2276640"/>
          <a:ext cx="5089320" cy="784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9160" y="2276640"/>
                    <a:ext cx="508932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7494840" y="6553080"/>
            <a:ext cx="1526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ex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と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logx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の微分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.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演習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4716360" y="1413000"/>
          <a:ext cx="259236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413000"/>
                    <a:ext cx="25923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900000" y="2781360"/>
          <a:ext cx="187164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781360"/>
                    <a:ext cx="187164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900000" y="1341360"/>
          <a:ext cx="194328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1341360"/>
                    <a:ext cx="19432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4716360" y="2781360"/>
          <a:ext cx="2664000" cy="100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2781360"/>
                    <a:ext cx="266400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0000" y="4425840"/>
          <a:ext cx="2519640" cy="889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00000" y="4425840"/>
                    <a:ext cx="25196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演習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-1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　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1908000" y="1197000"/>
          <a:ext cx="443736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97000"/>
                    <a:ext cx="44373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2268360" y="2637000"/>
          <a:ext cx="410400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37000"/>
                    <a:ext cx="41040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187280" y="4149720"/>
          <a:ext cx="6975720" cy="21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4149720"/>
                    <a:ext cx="697572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067280" y="1197000"/>
            <a:ext cx="22334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95640" y="2637000"/>
            <a:ext cx="4176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187280" y="4581360"/>
            <a:ext cx="698508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1255680" y="1225440"/>
          <a:ext cx="5742000" cy="9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1225440"/>
                    <a:ext cx="574200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2268360" y="2654280"/>
          <a:ext cx="410400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654280"/>
                    <a:ext cx="41040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662040" y="4173480"/>
          <a:ext cx="8026200" cy="205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040" y="4173480"/>
                    <a:ext cx="802620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4140360" y="1197000"/>
            <a:ext cx="2808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95640" y="2637000"/>
            <a:ext cx="417672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4653000"/>
            <a:ext cx="80643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971640" y="4253040"/>
          <a:ext cx="69850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253040"/>
                    <a:ext cx="69850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826920" y="692280"/>
          <a:ext cx="6985080" cy="30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692280"/>
                    <a:ext cx="698508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"/>
          <p:cNvSpPr/>
          <p:nvPr/>
        </p:nvSpPr>
        <p:spPr>
          <a:xfrm>
            <a:off x="2771640" y="1413000"/>
            <a:ext cx="5040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2565360"/>
            <a:ext cx="4464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4211640" y="2852640"/>
          <a:ext cx="468468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2852640"/>
                    <a:ext cx="46846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826920" y="4076640"/>
          <a:ext cx="7345440" cy="238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076640"/>
                    <a:ext cx="734544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436680" y="196920"/>
          <a:ext cx="6718320" cy="24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680" y="196920"/>
                    <a:ext cx="671832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3276720" y="260280"/>
            <a:ext cx="33112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276720" y="1268280"/>
            <a:ext cx="381636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2205000"/>
            <a:ext cx="215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40360" y="2852640"/>
            <a:ext cx="4824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4581360"/>
            <a:ext cx="7274160" cy="18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250920" y="3933720"/>
          <a:ext cx="86677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933720"/>
                    <a:ext cx="86677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179280" y="189000"/>
          <a:ext cx="8748720" cy="36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8748720" cy="36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2484360" y="44280"/>
            <a:ext cx="259236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92720" y="44280"/>
            <a:ext cx="360036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9280" y="981000"/>
            <a:ext cx="7632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79280" y="2205000"/>
            <a:ext cx="763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280" y="3068640"/>
            <a:ext cx="3313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9280" y="4005360"/>
            <a:ext cx="8713800" cy="26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539640" y="1268280"/>
          <a:ext cx="8353440" cy="36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353440" cy="36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2340000" y="18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2-1.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ちょっといい</a:t>
            </a: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e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の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50320" y="5445000"/>
            <a:ext cx="2453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ちょっといいeの話(Text   p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演習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932360" y="1289160"/>
          <a:ext cx="239400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89160"/>
                    <a:ext cx="239400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770040" y="1225440"/>
          <a:ext cx="220500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1225440"/>
                    <a:ext cx="22050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770040" y="3573360"/>
          <a:ext cx="223200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0040" y="3573360"/>
                    <a:ext cx="22320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349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0.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極限の確認テス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39640" y="1484280"/>
          <a:ext cx="740592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74059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39640" y="2997360"/>
          <a:ext cx="53755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997360"/>
                    <a:ext cx="53755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39640" y="4437000"/>
          <a:ext cx="8002800" cy="20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437000"/>
                    <a:ext cx="800280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演習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-2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　解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087560" y="1011240"/>
          <a:ext cx="617832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1011240"/>
                    <a:ext cx="61783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7560" y="4149720"/>
          <a:ext cx="5830920" cy="22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7560" y="4149720"/>
                    <a:ext cx="5830920" cy="22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3564000" y="1052640"/>
            <a:ext cx="3672000" cy="12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42920" y="2421000"/>
            <a:ext cx="61930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35280" y="4149720"/>
            <a:ext cx="3600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42920" y="5445000"/>
            <a:ext cx="619308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1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332000" y="404640"/>
          <a:ext cx="5713200" cy="33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571320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"/>
          <p:cNvSpPr/>
          <p:nvPr/>
        </p:nvSpPr>
        <p:spPr>
          <a:xfrm>
            <a:off x="3708360" y="476280"/>
            <a:ext cx="3311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332000" y="2708280"/>
            <a:ext cx="568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主要部分に注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105264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必須公式は以上で終わった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極限でもっとも大切なことは 「主要部分に注目すること」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ち　「近似して考えること」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答は見ただけで求まり，後で 真偽を確認する事も多い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．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"/>
          <p:cNvGraphicFramePr/>
          <p:nvPr/>
        </p:nvGraphicFramePr>
        <p:xfrm>
          <a:off x="2050920" y="189000"/>
          <a:ext cx="486900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9000"/>
                    <a:ext cx="48690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803160" y="1197000"/>
          <a:ext cx="7620120" cy="51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1197000"/>
                    <a:ext cx="762012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>
            <a:off x="2050920" y="3645000"/>
            <a:ext cx="547380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55640" y="4724280"/>
            <a:ext cx="5761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2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2195640" y="189000"/>
          <a:ext cx="486864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89000"/>
                    <a:ext cx="486864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-757080" y="1341360"/>
          <a:ext cx="8485200" cy="31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57080" y="1341360"/>
                    <a:ext cx="848520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50920" y="981000"/>
          <a:ext cx="8874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981000"/>
                    <a:ext cx="8874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258920" y="4941720"/>
          <a:ext cx="6480000" cy="155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941720"/>
                    <a:ext cx="6480000" cy="15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1595520" y="189000"/>
          <a:ext cx="607068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89000"/>
                    <a:ext cx="607068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0920" y="1341360"/>
          <a:ext cx="177480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341360"/>
                    <a:ext cx="1774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539640" y="2182680"/>
          <a:ext cx="8209080" cy="362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2182680"/>
                    <a:ext cx="820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79280" y="1268280"/>
            <a:ext cx="8569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2193840" y="74520"/>
          <a:ext cx="458316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3840" y="74520"/>
                    <a:ext cx="45831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971640" y="1484280"/>
          <a:ext cx="7777080" cy="17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484280"/>
                    <a:ext cx="777708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1042920" y="3860640"/>
          <a:ext cx="5473800" cy="17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3860640"/>
                    <a:ext cx="547380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971640" y="1413000"/>
            <a:ext cx="7777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971640" y="3789360"/>
            <a:ext cx="561636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1979640" y="333360"/>
          <a:ext cx="495612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3360"/>
                    <a:ext cx="49561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826920" y="1773360"/>
          <a:ext cx="7112160" cy="17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773360"/>
                    <a:ext cx="71121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826920" y="4508640"/>
          <a:ext cx="7480440" cy="12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508640"/>
                    <a:ext cx="748044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755640" y="1700280"/>
            <a:ext cx="7201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4437000"/>
            <a:ext cx="7713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8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2050920" y="333360"/>
          <a:ext cx="481356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33360"/>
                    <a:ext cx="481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539640" y="1773360"/>
          <a:ext cx="7702560" cy="174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773360"/>
                    <a:ext cx="770256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755640" y="4076640"/>
          <a:ext cx="7251840" cy="200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4076640"/>
                    <a:ext cx="72518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"/>
          <p:cNvSpPr/>
          <p:nvPr/>
        </p:nvSpPr>
        <p:spPr>
          <a:xfrm>
            <a:off x="468360" y="1773360"/>
            <a:ext cx="777564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8360" y="3933720"/>
            <a:ext cx="777564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6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2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"/>
          <p:cNvGraphicFramePr/>
          <p:nvPr/>
        </p:nvGraphicFramePr>
        <p:xfrm>
          <a:off x="1835280" y="0"/>
          <a:ext cx="524340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0"/>
                    <a:ext cx="524340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1692360" y="2060640"/>
          <a:ext cx="7283520" cy="26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060640"/>
                    <a:ext cx="72835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1979640" y="5084640"/>
          <a:ext cx="4753080" cy="160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9640" y="5084640"/>
                    <a:ext cx="475308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306000" y="47973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解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7720" y="213372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直感的解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1280" y="2133720"/>
            <a:ext cx="8964720" cy="25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1280" y="4724280"/>
            <a:ext cx="6732720" cy="20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1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6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確認テスト解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508720" y="1916280"/>
            <a:ext cx="3449520" cy="2807640"/>
            <a:chOff x="5508720" y="1916280"/>
            <a:chExt cx="3449520" cy="2807640"/>
          </a:xfrm>
        </p:grpSpPr>
        <p:sp>
          <p:nvSpPr>
            <p:cNvPr id="269" name=""/>
            <p:cNvSpPr/>
            <p:nvPr/>
          </p:nvSpPr>
          <p:spPr>
            <a:xfrm>
              <a:off x="5508720" y="4292280"/>
              <a:ext cx="32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164360" y="2203200"/>
              <a:ext cx="0" cy="25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93080" y="3644640"/>
              <a:ext cx="1443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81800" y="371628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7440" y="371628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3080" y="2995560"/>
              <a:ext cx="14436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5" name=""/>
            <p:cNvGraphicFramePr/>
            <p:nvPr/>
          </p:nvGraphicFramePr>
          <p:xfrm>
            <a:off x="8748720" y="4147920"/>
            <a:ext cx="209520" cy="22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748720" y="4147920"/>
                      <a:ext cx="209520" cy="22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"/>
            <p:cNvGraphicFramePr/>
            <p:nvPr/>
          </p:nvGraphicFramePr>
          <p:xfrm>
            <a:off x="7021440" y="1916280"/>
            <a:ext cx="265320" cy="31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21440" y="1916280"/>
                      <a:ext cx="265320" cy="31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9" name=""/>
            <p:cNvSpPr/>
            <p:nvPr/>
          </p:nvSpPr>
          <p:spPr>
            <a:xfrm>
              <a:off x="6887880" y="4221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2000" y="3284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92000" y="2636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2" name=""/>
          <p:cNvGraphicFramePr/>
          <p:nvPr/>
        </p:nvGraphicFramePr>
        <p:xfrm>
          <a:off x="324000" y="1413000"/>
          <a:ext cx="6492600" cy="220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413000"/>
                    <a:ext cx="64926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50920" y="5084640"/>
          <a:ext cx="8208720" cy="1035000"/>
        </p:xfrm>
        <a:graphic>
          <a:graphicData uri="http://schemas.openxmlformats.org/drawingml/2006/table">
            <a:tbl>
              <a:tblPr/>
              <a:tblGrid>
                <a:gridCol w="720360"/>
                <a:gridCol w="1152720"/>
                <a:gridCol w="1295280"/>
                <a:gridCol w="1513080"/>
                <a:gridCol w="1726920"/>
                <a:gridCol w="1800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0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0.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0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0.0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459640" y="5300640"/>
          <a:ext cx="50328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59640" y="5300640"/>
                    <a:ext cx="5032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8459640" y="5734080"/>
          <a:ext cx="508320" cy="2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459640" y="5734080"/>
                    <a:ext cx="50832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95280" y="5157720"/>
          <a:ext cx="393840" cy="432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5157720"/>
                    <a:ext cx="393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250920" y="5661000"/>
          <a:ext cx="649080" cy="384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5661000"/>
                    <a:ext cx="64908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2009880" y="189000"/>
          <a:ext cx="452736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189000"/>
                    <a:ext cx="452736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1763640" y="1413000"/>
          <a:ext cx="6348600" cy="93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1413000"/>
                    <a:ext cx="63486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163080" y="2637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解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07720" y="112536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直感的解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66840" y="2852640"/>
          <a:ext cx="6756480" cy="39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6840" y="2852640"/>
                    <a:ext cx="675648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"/>
          <p:cNvSpPr/>
          <p:nvPr/>
        </p:nvSpPr>
        <p:spPr>
          <a:xfrm>
            <a:off x="71280" y="1125360"/>
            <a:ext cx="81010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1280" y="2565360"/>
            <a:ext cx="81010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4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0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24000" y="189000"/>
          <a:ext cx="86040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6040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3" name="" descr=""/>
          <p:cNvPicPr/>
          <p:nvPr/>
        </p:nvPicPr>
        <p:blipFill>
          <a:blip r:embed="rId3"/>
          <a:stretch/>
        </p:blipFill>
        <p:spPr>
          <a:xfrm>
            <a:off x="1619280" y="2781360"/>
            <a:ext cx="590544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4" name=""/>
          <p:cNvGraphicFramePr/>
          <p:nvPr/>
        </p:nvGraphicFramePr>
        <p:xfrm>
          <a:off x="179280" y="260280"/>
          <a:ext cx="875844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5844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3419640" y="3357720"/>
            <a:ext cx="5303520" cy="313200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179280" y="1989000"/>
            <a:ext cx="87138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9280" y="3284640"/>
            <a:ext cx="3168720" cy="26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11280" y="1341360"/>
            <a:ext cx="102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練習3-7.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8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　ロピタルの定理（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つの無限小の比較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179280" y="981000"/>
          <a:ext cx="88567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88567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650880" y="2195640"/>
          <a:ext cx="8058240" cy="389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880" y="2195640"/>
                    <a:ext cx="805824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2484360" y="260280"/>
          <a:ext cx="3413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60280"/>
                    <a:ext cx="3413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826920" y="1341360"/>
          <a:ext cx="7272360" cy="25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341360"/>
                    <a:ext cx="727236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900000" y="4508640"/>
          <a:ext cx="6896160" cy="19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4508640"/>
                    <a:ext cx="6896160" cy="19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2338560" y="312840"/>
          <a:ext cx="37065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8560" y="312840"/>
                    <a:ext cx="37065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3" name=""/>
          <p:cNvGraphicFramePr/>
          <p:nvPr/>
        </p:nvGraphicFramePr>
        <p:xfrm>
          <a:off x="826920" y="1341360"/>
          <a:ext cx="7294680" cy="16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1341360"/>
                    <a:ext cx="72946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2340000" y="3429000"/>
          <a:ext cx="3706920" cy="9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3429000"/>
                    <a:ext cx="37069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1692360" y="4437000"/>
          <a:ext cx="4824360" cy="218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4437000"/>
                    <a:ext cx="482436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2195640" y="0"/>
          <a:ext cx="424152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42415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3995640" y="3451320"/>
            <a:ext cx="5040360" cy="340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2" name=""/>
          <p:cNvGraphicFramePr/>
          <p:nvPr/>
        </p:nvGraphicFramePr>
        <p:xfrm>
          <a:off x="423720" y="952560"/>
          <a:ext cx="8066160" cy="590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3720" y="952560"/>
                    <a:ext cx="80661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033680" y="492120"/>
            <a:ext cx="1610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ロピタルの定理.g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179280" y="0"/>
          <a:ext cx="88567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8567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7" name="" descr=""/>
          <p:cNvPicPr/>
          <p:nvPr/>
        </p:nvPicPr>
        <p:blipFill>
          <a:blip r:embed="rId3"/>
          <a:stretch/>
        </p:blipFill>
        <p:spPr>
          <a:xfrm>
            <a:off x="3995640" y="3500280"/>
            <a:ext cx="5040360" cy="313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8" name=""/>
          <p:cNvGraphicFramePr/>
          <p:nvPr/>
        </p:nvGraphicFramePr>
        <p:xfrm>
          <a:off x="42840" y="1201680"/>
          <a:ext cx="9043920" cy="568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0" y="1201680"/>
                    <a:ext cx="904392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451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演習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ロピタルの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364000" y="1268280"/>
          <a:ext cx="242100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268280"/>
                    <a:ext cx="24210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684360" y="1341360"/>
          <a:ext cx="244944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341360"/>
                    <a:ext cx="244944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1619280" y="189000"/>
          <a:ext cx="5040360" cy="27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5040360" cy="27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1619280" y="3500280"/>
          <a:ext cx="5832360" cy="315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3500280"/>
                    <a:ext cx="5832360" cy="31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4356000" y="189000"/>
            <a:ext cx="2303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356000" y="1341360"/>
            <a:ext cx="1584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356000" y="2205000"/>
            <a:ext cx="287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476360" y="3429000"/>
            <a:ext cx="6191280" cy="32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2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8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0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826920" y="765000"/>
          <a:ext cx="657396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65739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873000" y="2708280"/>
          <a:ext cx="7085160" cy="29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2708280"/>
                    <a:ext cx="708516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1403280" y="404640"/>
          <a:ext cx="493884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04640"/>
                    <a:ext cx="493884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457200" y="4653000"/>
          <a:ext cx="801540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653000"/>
                    <a:ext cx="80154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/>
          <p:nvPr/>
        </p:nvSpPr>
        <p:spPr>
          <a:xfrm>
            <a:off x="4211640" y="404640"/>
            <a:ext cx="2160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11640" y="1413000"/>
            <a:ext cx="2160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11640" y="227664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211640" y="3141720"/>
            <a:ext cx="2160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03280" y="4724280"/>
            <a:ext cx="705636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8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0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1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971640" y="476280"/>
          <a:ext cx="7632720" cy="52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76280"/>
                    <a:ext cx="763272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1476360" y="2133720"/>
            <a:ext cx="540072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971640" y="3645000"/>
            <a:ext cx="770400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2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6" dur="2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7451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５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次近似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(Taylor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展開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08000" y="981000"/>
          <a:ext cx="8970840" cy="51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81000"/>
                    <a:ext cx="897084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539640" y="333360"/>
          <a:ext cx="815508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815508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5-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次近似は 接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539640" y="3897360"/>
          <a:ext cx="496908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897360"/>
                    <a:ext cx="496908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395280" y="1052640"/>
          <a:ext cx="7819920" cy="21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052640"/>
                    <a:ext cx="781992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6" name="" descr=""/>
          <p:cNvPicPr/>
          <p:nvPr/>
        </p:nvPicPr>
        <p:blipFill>
          <a:blip r:embed="rId5"/>
          <a:stretch/>
        </p:blipFill>
        <p:spPr>
          <a:xfrm>
            <a:off x="6012000" y="2708280"/>
            <a:ext cx="300960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微分は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次近似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直線近似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08000" y="749160"/>
          <a:ext cx="8928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49160"/>
                    <a:ext cx="8928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457800" cy="21751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7895520" y="6219720"/>
            <a:ext cx="102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Taylor.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0" y="1125360"/>
          <a:ext cx="8885160" cy="11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88851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50920" y="2708280"/>
          <a:ext cx="8700840" cy="26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708280"/>
                    <a:ext cx="870084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-2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．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次近似の例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原点の周りの展開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7" name=""/>
          <p:cNvGraphicFramePr/>
          <p:nvPr/>
        </p:nvGraphicFramePr>
        <p:xfrm>
          <a:off x="311040" y="-27000"/>
          <a:ext cx="8740800" cy="668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-27000"/>
                    <a:ext cx="874080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9" name=""/>
          <p:cNvSpPr/>
          <p:nvPr/>
        </p:nvSpPr>
        <p:spPr>
          <a:xfrm>
            <a:off x="322200" y="2781360"/>
            <a:ext cx="8497800" cy="38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222760" y="6580080"/>
            <a:ext cx="986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taylor.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"/>
          <p:cNvGraphicFramePr/>
          <p:nvPr/>
        </p:nvGraphicFramePr>
        <p:xfrm>
          <a:off x="395280" y="1197000"/>
          <a:ext cx="841212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41212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0" y="0"/>
          <a:ext cx="8885160" cy="11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885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971640" y="4797360"/>
          <a:ext cx="7993080" cy="19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797360"/>
                    <a:ext cx="799308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108000" y="4797360"/>
          <a:ext cx="792000" cy="39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4797360"/>
                    <a:ext cx="79200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971640" y="4797360"/>
            <a:ext cx="79930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007120" y="4348080"/>
            <a:ext cx="986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taylor.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2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1155600" y="1197000"/>
          <a:ext cx="6889680" cy="35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197000"/>
                    <a:ext cx="68896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"/>
          <p:cNvGraphicFramePr/>
          <p:nvPr/>
        </p:nvGraphicFramePr>
        <p:xfrm>
          <a:off x="0" y="0"/>
          <a:ext cx="8885160" cy="11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885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三角関数の極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4360" y="1125360"/>
          <a:ext cx="767556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67556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3084480" y="2421000"/>
          <a:ext cx="51339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4480" y="2421000"/>
                    <a:ext cx="51339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356000" y="3357720"/>
          <a:ext cx="2592360" cy="44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3357720"/>
                    <a:ext cx="2592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539640" y="3141720"/>
            <a:ext cx="2772000" cy="263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3635280" y="4076640"/>
          <a:ext cx="4537080" cy="777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4076640"/>
                    <a:ext cx="45370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76720" y="5157720"/>
          <a:ext cx="1366920" cy="717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76720" y="5157720"/>
                    <a:ext cx="13669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8367840" y="6264360"/>
            <a:ext cx="787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sin.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179280" y="1197000"/>
          <a:ext cx="8861400" cy="27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86140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"/>
          <p:cNvGraphicFramePr/>
          <p:nvPr/>
        </p:nvGraphicFramePr>
        <p:xfrm>
          <a:off x="1187280" y="4076640"/>
          <a:ext cx="6372360" cy="24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076640"/>
                    <a:ext cx="63723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179280" y="0"/>
            <a:ext cx="581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次の近似式の証明】　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ロピタルの定理よ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694320" y="0"/>
            <a:ext cx="219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5-3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定理の証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1138320" y="549360"/>
          <a:ext cx="6950160" cy="31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549360"/>
                    <a:ext cx="695016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233280" y="3997440"/>
          <a:ext cx="8452080" cy="28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3997440"/>
                    <a:ext cx="8452080" cy="28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376200" y="44280"/>
            <a:ext cx="60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【３次の近似式の証明】　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ロピタルの定理よ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861840" y="333360"/>
            <a:ext cx="7471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おつかれさま．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ここで使ったソフトは </a:t>
            </a: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Geogebra </a:t>
            </a: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と言う幾何ソフト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MuPAD</a:t>
            </a: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という汎用数学ソフトです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Geogebra</a:t>
            </a: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の方は無料なので　ダウンロード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遊ぶことも出来ます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数学を面白いと思うことが　上達の早道です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皆さんも自分なりに　少しは楽しみながら　数学を勉強していっ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下さ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もしこの授業が その助けになったとしたら幸いです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1" lang="ja-JP" sz="2400" spc="-1" strike="noStrike">
                <a:solidFill>
                  <a:srgbClr val="ffffff"/>
                </a:solidFill>
                <a:latin typeface="Tahoma"/>
              </a:rPr>
              <a:t>生越　茂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1187280" y="1341360"/>
          <a:ext cx="669780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341360"/>
                    <a:ext cx="669780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635280" y="1268280"/>
            <a:ext cx="410364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35280" y="2637000"/>
            <a:ext cx="2808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5280" y="3933720"/>
            <a:ext cx="4176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035000" y="404640"/>
          <a:ext cx="7216920" cy="10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404640"/>
                    <a:ext cx="7216920" cy="10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84360" y="1450800"/>
          <a:ext cx="7775280" cy="522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450800"/>
                    <a:ext cx="7775280" cy="52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611280" y="907920"/>
          <a:ext cx="5371920" cy="207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5371920" cy="20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7991640" cy="28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2627280" y="115920"/>
          <a:ext cx="3867120" cy="53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7280" y="115920"/>
                    <a:ext cx="38671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3492360" y="1484280"/>
            <a:ext cx="2448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2205000"/>
            <a:ext cx="1800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8:11:31Z</dcterms:created>
  <dc:creator>ogose shigeki</dc:creator>
  <dc:description/>
  <dc:language>en-US</dc:language>
  <cp:lastModifiedBy>ogose shigeki</cp:lastModifiedBy>
  <dcterms:modified xsi:type="dcterms:W3CDTF">2010-06-27T03:08:33Z</dcterms:modified>
  <cp:revision>76</cp:revision>
  <dc:subject/>
  <dc:title>極限と微分</dc:title>
</cp:coreProperties>
</file>