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26.png" ContentType="image/pn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8.png" ContentType="image/png"/>
  <Override PartName="/ppt/media/image8.jpeg" ContentType="image/jpeg"/>
  <Override PartName="/ppt/media/image28.png" ContentType="image/png"/>
  <Override PartName="/ppt/media/image31.wmf" ContentType="image/x-wmf"/>
  <Override PartName="/ppt/media/image6.wmf" ContentType="image/x-wmf"/>
  <Override PartName="/ppt/media/image5.jpeg" ContentType="image/jpeg"/>
  <Override PartName="/ppt/media/image9.wmf" ContentType="image/x-wmf"/>
  <Override PartName="/ppt/media/image34.wmf" ContentType="image/x-wmf"/>
  <Override PartName="/ppt/media/image33.wmf" ContentType="image/x-wmf"/>
  <Override PartName="/ppt/media/image13.png" ContentType="image/png"/>
  <Override PartName="/ppt/media/image35.wmf" ContentType="image/x-wmf"/>
  <Override PartName="/ppt/media/image30.png" ContentType="image/png"/>
  <Override PartName="/ppt/media/image3.jpeg" ContentType="image/jpeg"/>
  <Override PartName="/ppt/media/image15.png" ContentType="image/png"/>
  <Override PartName="/ppt/media/image36.png" ContentType="image/png"/>
  <Override PartName="/ppt/media/image7.wmf" ContentType="image/x-wmf"/>
  <Override PartName="/ppt/media/image37.png" ContentType="image/png"/>
  <Override PartName="/ppt/media/image12.jpeg" ContentType="image/jpeg"/>
  <Override PartName="/ppt/media/image4.png" ContentType="image/png"/>
  <Override PartName="/ppt/media/image27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wmf" ContentType="image/x-wmf"/>
  <Override PartName="/ppt/media/image32.wmf" ContentType="image/x-wmf"/>
  <Override PartName="/ppt/media/image29.png" ContentType="image/png"/>
  <Override PartName="/ppt/media/image16.png" ContentType="image/png"/>
  <Override PartName="/ppt/media/image20.wmf" ContentType="image/x-wmf"/>
  <Override PartName="/ppt/media/image17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7099300" cy="102235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076B3-195B-4706-B55F-3A6322377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9ACD-C6FF-4EFD-B91B-4ECDA1ADA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5F2AA-2EB2-4757-9CD7-0E777C418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C0927-973F-48CB-8453-2842618238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D1780-1E68-430A-B8B9-4684E325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B160B-D72C-4A4C-A41D-C1C5561CC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4D9F6-0314-4D67-A39F-8B47F42F4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C4DF02-CF8C-4A1F-9063-47BEE00C8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BDD36E-89E9-4BBA-8FCC-4B0D878C4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29E8A3-3AE7-4800-940B-E8D8510F74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9E57D8-FD72-4C65-8DD7-2E11DC25C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92B27-35E9-4899-8CE7-FC030FCDF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C72C8-54E6-4F6F-83DC-7229E5FF6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9066B-183E-4674-9178-D82C662B6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B5BEF8-85CB-48E6-91E6-FC4BC1043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A581-6D26-466C-8FAE-05A2BBFD1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5ED0C-B948-4062-8C58-80D66777E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339263E-C3AB-47A1-A726-4BFEA3F9BB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8074D38-E917-407F-A9EB-EF810D011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4D3B43C-4753-4E60-BB64-779757E81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76A4933-2CDF-44D1-A6E5-281507413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3A6016-62DC-4345-B18B-B52CFA9E8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DFF3C-E629-4447-91FB-CC3C16CCF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C69C28A-0BA9-4765-A448-C5920A20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76E4DBD-22B8-490A-9535-56BE73490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8345450-66DD-46E8-902F-DA0C92FD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0EBD989-5819-4192-9A12-51ABD1701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7F9040C-9709-4E38-BB7C-1F64F5201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63565C-12A2-42D9-925A-69A3913EDB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99A2E2-1A34-4432-AF42-D2C5C3BDF3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3E01-268F-4BFF-A642-2F1434882F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F18A6-1984-452F-AFF5-CCB99AE7D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593D3-1C85-41A7-A31F-49FE983A8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05AF-8199-4693-9788-0211B7920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C17A-37A9-4E28-BAC6-3C927771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8735D-1427-4F7A-8DC8-1E2CD0455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62AACE-B4A5-413D-B9CA-5043C187D21E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F254D-0A75-475B-9577-4106ED560B90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ftr" idx="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Num" idx="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F7F0E-DB99-40B1-8F00-CB086954DA79}" type="slidenum"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../../Dropbox/Temp/cabri/April2016/&#35036;&#20805;/Pappus.cdy" TargetMode="External"/><Relationship Id="rId3" Type="http://schemas.openxmlformats.org/officeDocument/2006/relationships/image" Target="../media/image24.png"/><Relationship Id="rId4" Type="http://schemas.openxmlformats.org/officeDocument/2006/relationships/image" Target="../media/image25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1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2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3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34.wmf"/><Relationship Id="rId1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image" Target="../media/image36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2.wmf"/><Relationship Id="rId6" Type="http://schemas.openxmlformats.org/officeDocument/2006/relationships/image" Target="../media/image37.png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3.jpeg"/><Relationship Id="rId4" Type="http://schemas.openxmlformats.org/officeDocument/2006/relationships/image" Target="../media/image4.png"/><Relationship Id="rId5" Type="http://schemas.openxmlformats.org/officeDocument/2006/relationships/image" Target="../media/image5.jpeg"/><Relationship Id="rId6" Type="http://schemas.openxmlformats.org/officeDocument/2006/relationships/oleObject" Target="../embeddings/oleObject1.bin"/><Relationship Id="rId7" Type="http://schemas.openxmlformats.org/officeDocument/2006/relationships/image" Target="../media/image6.wmf"/><Relationship Id="rId8" Type="http://schemas.openxmlformats.org/officeDocument/2006/relationships/oleObject" Target="../embeddings/oleObject2.bin"/><Relationship Id="rId9" Type="http://schemas.openxmlformats.org/officeDocument/2006/relationships/image" Target="../media/image7.wmf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8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9.wmf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4.wmf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../../Dropbox/Temp/cabri/April2016/&#23556;&#24433;&#22793;&#25563;.cdy" TargetMode="External"/><Relationship Id="rId3" Type="http://schemas.openxmlformats.org/officeDocument/2006/relationships/hyperlink" Target="file:///../../../../Dropbox/Temp/cabri/April2016/&#23556;&#24433;&#22793;&#25563;.cdy" TargetMode="External"/><Relationship Id="rId4" Type="http://schemas.openxmlformats.org/officeDocument/2006/relationships/hyperlink" Target="file:///../../../../Dropbox/Temp/cabri/April2016/&#23556;&#24433;&#22793;&#25563;.cdy" TargetMode="External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1.png"/><Relationship Id="rId3" Type="http://schemas.openxmlformats.org/officeDocument/2006/relationships/hyperlink" Target="file:///../../../../Dropbox/Temp/cabri/April2016/Desargues.cdy" TargetMode="External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hyperlink" Target="file:///../../../../Dropbox/Temp/cabri/April2016/&#35036;&#20805;/Desargues2.cdy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2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1676160"/>
            <a:ext cx="853416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800" spc="-1" strike="noStrike">
                <a:solidFill>
                  <a:srgbClr val="ffffff"/>
                </a:solidFill>
                <a:latin typeface="Tahoma"/>
              </a:rPr>
              <a:t>「幾何再入門」と「シンデレラ」</a:t>
            </a:r>
            <a:br>
              <a:rPr sz="3000"/>
            </a:br>
            <a:r>
              <a:rPr b="0" lang="ja-JP" sz="3000" spc="-1" strike="noStrike">
                <a:solidFill>
                  <a:srgbClr val="ffffff"/>
                </a:solidFill>
                <a:latin typeface="Tahoma"/>
              </a:rPr>
              <a:t>～</a:t>
            </a:r>
            <a:r>
              <a:rPr b="0" i="1" lang="en-US" sz="3000" spc="-1" strike="noStrike">
                <a:solidFill>
                  <a:srgbClr val="ffffff"/>
                </a:solidFill>
                <a:latin typeface="Tahoma"/>
              </a:rPr>
              <a:t>Long time no see you</a:t>
            </a: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ja-JP" sz="3000" spc="-1" strike="noStrike">
                <a:solidFill>
                  <a:srgbClr val="ffffff"/>
                </a:solidFill>
                <a:latin typeface="Tahoma"/>
              </a:rPr>
              <a:t>～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1371240" y="3962160"/>
            <a:ext cx="6553080" cy="243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2016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年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月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10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日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abri</a:t>
            </a: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研究会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Tahoma"/>
              </a:rPr>
              <a:t>生越　茂樹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236" name=""/>
          <p:cNvSpPr/>
          <p:nvPr/>
        </p:nvSpPr>
        <p:spPr>
          <a:xfrm>
            <a:off x="898560" y="48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905120" y="395280"/>
            <a:ext cx="472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  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［補充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］ パッポスの定理</a:t>
            </a:r>
            <a:r>
              <a:rPr b="1" lang="ja-JP" sz="2000" spc="-1" strike="noStrike">
                <a:solidFill>
                  <a:srgbClr val="333399"/>
                </a:solidFill>
                <a:latin typeface="Tahoma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864920" y="1981080"/>
            <a:ext cx="10022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Pappus.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5334120" y="50054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152280" y="3686040"/>
            <a:ext cx="5105520" cy="2638440"/>
          </a:xfrm>
          <a:prstGeom prst="rect">
            <a:avLst/>
          </a:prstGeom>
          <a:ln w="0">
            <a:noFill/>
          </a:ln>
        </p:spPr>
      </p:pic>
      <p:pic>
        <p:nvPicPr>
          <p:cNvPr id="241" name="" descr=""/>
          <p:cNvPicPr/>
          <p:nvPr/>
        </p:nvPicPr>
        <p:blipFill>
          <a:blip r:embed="rId4"/>
          <a:stretch/>
        </p:blipFill>
        <p:spPr>
          <a:xfrm>
            <a:off x="5638680" y="4238640"/>
            <a:ext cx="3353040" cy="15350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985320" y="1949400"/>
            <a:ext cx="6000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交点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D∩BG=H, AF∩CE=K, CE∩AF=G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する．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を無限遠点に射影すると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"/>
          <p:cNvGrpSpPr/>
          <p:nvPr/>
        </p:nvGrpSpPr>
        <p:grpSpPr>
          <a:xfrm>
            <a:off x="3095280" y="2406600"/>
            <a:ext cx="3168720" cy="337320"/>
            <a:chOff x="3095280" y="2406600"/>
            <a:chExt cx="3168720" cy="337320"/>
          </a:xfrm>
        </p:grpSpPr>
        <p:sp>
          <p:nvSpPr>
            <p:cNvPr id="244" name=""/>
            <p:cNvSpPr/>
            <p:nvPr/>
          </p:nvSpPr>
          <p:spPr>
            <a:xfrm>
              <a:off x="3095280" y="2406600"/>
              <a:ext cx="3109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→ 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D//BC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となり，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G,H,K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が共線となる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3215880" y="2427120"/>
              <a:ext cx="3048120" cy="30492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6" name=""/>
          <p:cNvGrpSpPr/>
          <p:nvPr/>
        </p:nvGrpSpPr>
        <p:grpSpPr>
          <a:xfrm>
            <a:off x="477720" y="907920"/>
            <a:ext cx="8285040" cy="844560"/>
            <a:chOff x="477720" y="907920"/>
            <a:chExt cx="8285040" cy="844560"/>
          </a:xfrm>
        </p:grpSpPr>
        <p:sp>
          <p:nvSpPr>
            <p:cNvPr id="247" name=""/>
            <p:cNvSpPr/>
            <p:nvPr/>
          </p:nvSpPr>
          <p:spPr>
            <a:xfrm>
              <a:off x="951840" y="907920"/>
              <a:ext cx="734328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A,B,E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が直線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l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上に，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C,D,F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が直線 </a:t>
              </a:r>
              <a:r>
                <a:rPr b="0" i="1" lang="en-US" sz="1600" spc="-1" strike="noStrike">
                  <a:solidFill>
                    <a:srgbClr val="000000"/>
                  </a:solidFill>
                  <a:latin typeface="Tahoma"/>
                </a:rPr>
                <a:t>m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上にあるとし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, AD∩BG=H, AF∩CE=K, CE∩AF=G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とすると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,K,G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は共線となる．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77720" y="1218960"/>
              <a:ext cx="8285040" cy="533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2133720" y="152280"/>
            <a:ext cx="4876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333399"/>
                </a:solidFill>
                <a:latin typeface="Tahoma"/>
              </a:rPr>
              <a:t>　 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［補充</a:t>
            </a: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3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］ パスカルの定理</a:t>
            </a:r>
            <a:r>
              <a:rPr b="1" lang="ja-JP" sz="2000" spc="-1" strike="noStrike">
                <a:solidFill>
                  <a:srgbClr val="333399"/>
                </a:solidFill>
                <a:latin typeface="Tahoma"/>
              </a:rPr>
              <a:t>　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5943600" y="37497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8600" y="5635800"/>
            <a:ext cx="87631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[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証明］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,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を無限遠点に射影した時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が直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上」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⇔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H//KF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かつ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K//LG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なら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M//FL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」 を示す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i)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直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次曲線と共有点を持たないとき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次曲線は楕円となる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.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これをアフィン変換によっ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　　円に移すと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M//FL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が成り立つことが分かる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ii)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共有点を持つとき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次曲線が楕円に移らない． この時は 複比を使い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HM//FL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を示す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2"/>
          <a:stretch/>
        </p:blipFill>
        <p:spPr>
          <a:xfrm>
            <a:off x="304920" y="1938240"/>
            <a:ext cx="5562360" cy="3624480"/>
          </a:xfrm>
          <a:prstGeom prst="rect">
            <a:avLst/>
          </a:prstGeom>
          <a:ln w="0">
            <a:noFill/>
          </a:ln>
        </p:spPr>
      </p:pic>
      <p:pic>
        <p:nvPicPr>
          <p:cNvPr id="255" name="" descr=""/>
          <p:cNvPicPr/>
          <p:nvPr/>
        </p:nvPicPr>
        <p:blipFill>
          <a:blip r:embed="rId3"/>
          <a:stretch/>
        </p:blipFill>
        <p:spPr>
          <a:xfrm>
            <a:off x="6248520" y="2719440"/>
            <a:ext cx="2666880" cy="2060640"/>
          </a:xfrm>
          <a:prstGeom prst="rect">
            <a:avLst/>
          </a:prstGeom>
          <a:ln w="0">
            <a:noFill/>
          </a:ln>
        </p:spPr>
      </p:pic>
      <p:sp>
        <p:nvSpPr>
          <p:cNvPr id="256" name=""/>
          <p:cNvSpPr/>
          <p:nvPr/>
        </p:nvSpPr>
        <p:spPr>
          <a:xfrm>
            <a:off x="685800" y="730080"/>
            <a:ext cx="8229600" cy="336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6320" y="700200"/>
            <a:ext cx="89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定理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次曲線上の６点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,H,M,K,F,L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に対し，対辺の交点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GH∩KF, HM∩FL, MK∩LG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は共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152280" y="1143000"/>
            <a:ext cx="8305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図で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K∩LG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,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H∩KF=R, HM∩FL=S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する．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, R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点を無限遠点に射影すると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2514600" y="1492200"/>
            <a:ext cx="3886200" cy="337320"/>
            <a:chOff x="2514600" y="1492200"/>
            <a:chExt cx="3886200" cy="337320"/>
          </a:xfrm>
        </p:grpSpPr>
        <p:sp>
          <p:nvSpPr>
            <p:cNvPr id="260" name=""/>
            <p:cNvSpPr/>
            <p:nvPr/>
          </p:nvSpPr>
          <p:spPr>
            <a:xfrm>
              <a:off x="2514600" y="1492200"/>
              <a:ext cx="3886200" cy="337320"/>
            </a:xfrm>
            <a:prstGeom prst="rect">
              <a:avLst/>
            </a:prstGeom>
            <a:solidFill>
              <a:srgbClr val="ccffff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→ 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「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HM//FL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」となり，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S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も直線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QR</a:t>
              </a:r>
              <a:r>
                <a:rPr b="0" lang="ja-JP" sz="1600" spc="-1" strike="noStrike">
                  <a:solidFill>
                    <a:srgbClr val="000000"/>
                  </a:solidFill>
                  <a:latin typeface="Tahoma"/>
                </a:rPr>
                <a:t>上にある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2838600" y="1512720"/>
              <a:ext cx="3276720" cy="304920"/>
            </a:xfrm>
            <a:prstGeom prst="rect">
              <a:avLst/>
            </a:prstGeom>
            <a:solidFill>
              <a:srgbClr val="ccffff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"/>
          <p:cNvSpPr/>
          <p:nvPr/>
        </p:nvSpPr>
        <p:spPr>
          <a:xfrm>
            <a:off x="8019000" y="1173240"/>
            <a:ext cx="916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Pascal.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52280" y="-7668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［補充</a:t>
            </a: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4</a:t>
            </a:r>
            <a:r>
              <a:rPr b="1" lang="ja-JP" sz="2800" spc="-1" strike="noStrike">
                <a:solidFill>
                  <a:srgbClr val="333399"/>
                </a:solidFill>
                <a:latin typeface="Arial"/>
              </a:rPr>
              <a:t>］‘幾何再入門’におけるパスカルの定理の証明</a:t>
            </a:r>
            <a:r>
              <a:rPr b="1" lang="ja-JP" sz="4000" spc="-1" strike="noStrike">
                <a:solidFill>
                  <a:srgbClr val="000000"/>
                </a:solidFill>
                <a:latin typeface="Arial"/>
              </a:rPr>
              <a:t>　　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rcRect l="5500" t="9312" r="7563" b="9802"/>
          <a:stretch/>
        </p:blipFill>
        <p:spPr>
          <a:xfrm>
            <a:off x="465120" y="1041480"/>
            <a:ext cx="8450280" cy="55134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304920" y="914400"/>
            <a:ext cx="853416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6" name="" descr=""/>
          <p:cNvPicPr/>
          <p:nvPr/>
        </p:nvPicPr>
        <p:blipFill>
          <a:blip r:embed="rId1"/>
          <a:stretch/>
        </p:blipFill>
        <p:spPr>
          <a:xfrm>
            <a:off x="4896000" y="3143160"/>
            <a:ext cx="3333600" cy="1909800"/>
          </a:xfrm>
          <a:prstGeom prst="rect">
            <a:avLst/>
          </a:prstGeom>
          <a:ln w="0">
            <a:noFill/>
          </a:ln>
        </p:spPr>
      </p:pic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３</a:t>
            </a: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. 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極変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85800" y="2924280"/>
            <a:ext cx="2819520" cy="2347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9" name=""/>
          <p:cNvGraphicFramePr/>
          <p:nvPr/>
        </p:nvGraphicFramePr>
        <p:xfrm>
          <a:off x="762120" y="981000"/>
          <a:ext cx="7095960" cy="1820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7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762120" y="981000"/>
                    <a:ext cx="709596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1" name=""/>
          <p:cNvSpPr/>
          <p:nvPr/>
        </p:nvSpPr>
        <p:spPr>
          <a:xfrm>
            <a:off x="3416040" y="4967280"/>
            <a:ext cx="3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8156160" y="4738680"/>
            <a:ext cx="46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en-US" sz="1800" spc="-1" strike="noStrike" baseline="30000">
                <a:solidFill>
                  <a:srgbClr val="000000"/>
                </a:solidFill>
                <a:latin typeface="Tahoma"/>
              </a:rPr>
              <a:t>2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3733920" y="3971880"/>
          <a:ext cx="1058760" cy="3240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7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3971880"/>
                    <a:ext cx="1058760" cy="32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5" name=""/>
          <p:cNvSpPr/>
          <p:nvPr/>
        </p:nvSpPr>
        <p:spPr>
          <a:xfrm>
            <a:off x="6824520" y="2514600"/>
            <a:ext cx="947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極変換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cd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7692840" y="251460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極変換１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gg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914400" y="6154560"/>
          <a:ext cx="7010280" cy="254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278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14400" y="6154560"/>
                    <a:ext cx="7010280" cy="254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79" name=""/>
          <p:cNvGraphicFramePr/>
          <p:nvPr/>
        </p:nvGraphicFramePr>
        <p:xfrm>
          <a:off x="852480" y="5486400"/>
          <a:ext cx="6919920" cy="6015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852480" y="5486400"/>
                    <a:ext cx="6919920" cy="601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4952880" y="2971800"/>
            <a:ext cx="327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2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4952880" y="2971800"/>
            <a:ext cx="32767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3" name=""/>
          <p:cNvGraphicFramePr/>
          <p:nvPr/>
        </p:nvGraphicFramePr>
        <p:xfrm>
          <a:off x="588960" y="414360"/>
          <a:ext cx="7945560" cy="957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8960" y="414360"/>
                    <a:ext cx="7945560" cy="957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5" name="" descr=""/>
          <p:cNvPicPr/>
          <p:nvPr/>
        </p:nvPicPr>
        <p:blipFill>
          <a:blip r:embed="rId3"/>
          <a:stretch/>
        </p:blipFill>
        <p:spPr>
          <a:xfrm>
            <a:off x="609480" y="1701720"/>
            <a:ext cx="4343400" cy="410868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237120" y="452592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7" name=""/>
          <p:cNvGraphicFramePr/>
          <p:nvPr/>
        </p:nvGraphicFramePr>
        <p:xfrm>
          <a:off x="4419720" y="3594240"/>
          <a:ext cx="1058760" cy="323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8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419720" y="3594240"/>
                    <a:ext cx="1058760" cy="32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9" name=""/>
          <p:cNvSpPr/>
          <p:nvPr/>
        </p:nvSpPr>
        <p:spPr>
          <a:xfrm>
            <a:off x="7602480" y="1066680"/>
            <a:ext cx="782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ahoma"/>
              </a:rPr>
              <a:t>極変換２</a:t>
            </a: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.gg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0" name="" descr=""/>
          <p:cNvPicPr/>
          <p:nvPr/>
        </p:nvPicPr>
        <p:blipFill>
          <a:blip r:embed="rId6"/>
          <a:stretch/>
        </p:blipFill>
        <p:spPr>
          <a:xfrm>
            <a:off x="5791320" y="2617920"/>
            <a:ext cx="2895480" cy="241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1. 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「幾何再入門」　再訪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3114720" y="1066680"/>
            <a:ext cx="311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－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Jennings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「幾何再入門」 第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4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章「射影幾何」より 抜粋＆私見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98560" y="48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4800600" y="1752480"/>
            <a:ext cx="4191120" cy="2590920"/>
            <a:chOff x="4800600" y="1752480"/>
            <a:chExt cx="4191120" cy="2590920"/>
          </a:xfrm>
        </p:grpSpPr>
        <p:pic>
          <p:nvPicPr>
            <p:cNvPr id="132" name="" descr=""/>
            <p:cNvPicPr/>
            <p:nvPr/>
          </p:nvPicPr>
          <p:blipFill>
            <a:blip r:embed="rId2"/>
            <a:srcRect l="51567" t="4901" r="6875" b="58812"/>
            <a:stretch/>
          </p:blipFill>
          <p:spPr>
            <a:xfrm>
              <a:off x="4800600" y="1773360"/>
              <a:ext cx="4191120" cy="244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4953240" y="1752480"/>
              <a:ext cx="3962160" cy="2590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3"/>
          <a:srcRect l="3437" t="4901" r="55005" b="49010"/>
          <a:stretch/>
        </p:blipFill>
        <p:spPr>
          <a:xfrm rot="21540000">
            <a:off x="228240" y="1726920"/>
            <a:ext cx="4646520" cy="30733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28600" y="1752480"/>
            <a:ext cx="4572000" cy="4648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4"/>
          <a:stretch/>
        </p:blipFill>
        <p:spPr>
          <a:xfrm>
            <a:off x="1523880" y="4876920"/>
            <a:ext cx="2133720" cy="1431720"/>
          </a:xfrm>
          <a:prstGeom prst="rect">
            <a:avLst/>
          </a:prstGeom>
          <a:ln w="0">
            <a:noFill/>
          </a:ln>
        </p:spPr>
      </p:pic>
      <p:pic>
        <p:nvPicPr>
          <p:cNvPr id="137" name="" descr=""/>
          <p:cNvPicPr/>
          <p:nvPr/>
        </p:nvPicPr>
        <p:blipFill>
          <a:blip r:embed="rId5"/>
          <a:stretch/>
        </p:blipFill>
        <p:spPr>
          <a:xfrm>
            <a:off x="5410080" y="4572000"/>
            <a:ext cx="1327320" cy="182880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7076880" y="5837400"/>
            <a:ext cx="11178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「幾何再入門」岩波書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G.Jennings </a:t>
            </a: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著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伊理正夫・伊理由美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2743200" y="2057400"/>
          <a:ext cx="1600200" cy="9288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743200" y="2057400"/>
                    <a:ext cx="1600200" cy="92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"/>
          <p:cNvGraphicFramePr/>
          <p:nvPr/>
        </p:nvGraphicFramePr>
        <p:xfrm>
          <a:off x="5257800" y="3449520"/>
          <a:ext cx="1523880" cy="7257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57800" y="3449520"/>
                    <a:ext cx="1523880" cy="72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8493840" y="3886200"/>
            <a:ext cx="328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∞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898560" y="48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rcRect l="3437" t="4901" r="55005" b="39208"/>
          <a:stretch/>
        </p:blipFill>
        <p:spPr>
          <a:xfrm>
            <a:off x="228600" y="0"/>
            <a:ext cx="5105520" cy="47386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8" name=""/>
          <p:cNvGraphicFramePr/>
          <p:nvPr/>
        </p:nvGraphicFramePr>
        <p:xfrm>
          <a:off x="5638680" y="1023840"/>
          <a:ext cx="3124440" cy="26942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638680" y="1023840"/>
                    <a:ext cx="3124440" cy="269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457200" y="228600"/>
            <a:ext cx="4876920" cy="4495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5"/>
          <a:stretch/>
        </p:blipFill>
        <p:spPr>
          <a:xfrm>
            <a:off x="457200" y="4800600"/>
            <a:ext cx="3505320" cy="191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rcRect l="3437" t="7842" r="57067" b="29406"/>
          <a:stretch/>
        </p:blipFill>
        <p:spPr>
          <a:xfrm>
            <a:off x="380880" y="533520"/>
            <a:ext cx="4172040" cy="46479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80880" y="533520"/>
            <a:ext cx="4267440" cy="4800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725400" y="5391000"/>
            <a:ext cx="3189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［証明］練習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･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･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　としてヒントつきで出題＆解答されているが，省略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4952880" y="990720"/>
            <a:ext cx="3809880" cy="4952880"/>
            <a:chOff x="4952880" y="990720"/>
            <a:chExt cx="3809880" cy="4952880"/>
          </a:xfrm>
        </p:grpSpPr>
        <p:grpSp>
          <p:nvGrpSpPr>
            <p:cNvPr id="156" name=""/>
            <p:cNvGrpSpPr/>
            <p:nvPr/>
          </p:nvGrpSpPr>
          <p:grpSpPr>
            <a:xfrm>
              <a:off x="4952880" y="990720"/>
              <a:ext cx="3809880" cy="4952880"/>
              <a:chOff x="4952880" y="990720"/>
              <a:chExt cx="3809880" cy="4952880"/>
            </a:xfrm>
          </p:grpSpPr>
          <p:pic>
            <p:nvPicPr>
              <p:cNvPr id="15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5011560" y="3809880"/>
                <a:ext cx="1708200" cy="18637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158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7068960" y="3809880"/>
                <a:ext cx="1465200" cy="1685880"/>
              </a:xfrm>
              <a:prstGeom prst="rect">
                <a:avLst/>
              </a:prstGeom>
              <a:ln w="0">
                <a:noFill/>
              </a:ln>
            </p:spPr>
          </p:pic>
          <p:graphicFrame>
            <p:nvGraphicFramePr>
              <p:cNvPr id="159" name=""/>
              <p:cNvGraphicFramePr/>
              <p:nvPr/>
            </p:nvGraphicFramePr>
            <p:xfrm>
              <a:off x="5105160" y="1055520"/>
              <a:ext cx="3548160" cy="2503800"/>
            </p:xfrm>
            <a:graphic>
              <a:graphicData uri="http://schemas.openxmlformats.org/presentationml/2006/ole">
                <p:oleObj r:id="rId4" spid="">
                  <p:embed/>
                  <p:pic>
                    <p:nvPicPr>
                      <p:cNvPr id="160" name="" descr=""/>
                      <p:cNvPicPr/>
                      <p:nvPr/>
                    </p:nvPicPr>
                    <p:blipFill>
                      <a:blip r:embed="rId5"/>
                      <a:stretch/>
                    </p:blipFill>
                    <p:spPr>
                      <a:xfrm>
                        <a:off x="5105160" y="1055520"/>
                        <a:ext cx="3548160" cy="25038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61" name=""/>
              <p:cNvSpPr/>
              <p:nvPr/>
            </p:nvSpPr>
            <p:spPr>
              <a:xfrm>
                <a:off x="4952880" y="990720"/>
                <a:ext cx="3809880" cy="4952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"/>
            <p:cNvSpPr/>
            <p:nvPr/>
          </p:nvSpPr>
          <p:spPr>
            <a:xfrm>
              <a:off x="7319160" y="5410080"/>
              <a:ext cx="264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ahoma"/>
                </a:rPr>
                <a:t>K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5895720" y="533520"/>
            <a:ext cx="170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33399"/>
                </a:solidFill>
                <a:latin typeface="Tahoma"/>
              </a:rPr>
              <a:t>さて </a:t>
            </a:r>
            <a:r>
              <a:rPr b="0" lang="en-US" sz="1400" spc="-1" strike="noStrike">
                <a:solidFill>
                  <a:srgbClr val="333399"/>
                </a:solidFill>
                <a:latin typeface="Tahoma"/>
              </a:rPr>
              <a:t>[O,T,B,B’]</a:t>
            </a:r>
            <a:r>
              <a:rPr b="0" lang="ja-JP" sz="1400" spc="-1" strike="noStrike">
                <a:solidFill>
                  <a:srgbClr val="333399"/>
                </a:solidFill>
                <a:latin typeface="Tahoma"/>
              </a:rPr>
              <a:t>の値は？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6"/>
          <a:stretch/>
        </p:blipFill>
        <p:spPr>
          <a:xfrm>
            <a:off x="1523880" y="3124080"/>
            <a:ext cx="1708200" cy="186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333399"/>
                </a:solidFill>
                <a:latin typeface="Arial"/>
              </a:rPr>
              <a:t>§2. </a:t>
            </a:r>
            <a:r>
              <a:rPr b="0" lang="ja-JP" sz="3600" spc="-1" strike="noStrike">
                <a:solidFill>
                  <a:srgbClr val="333399"/>
                </a:solidFill>
                <a:latin typeface="Arial"/>
              </a:rPr>
              <a:t>射影変換と「シンデレラ」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898560" y="48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219320" y="990720"/>
            <a:ext cx="6933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§2-1. </a:t>
            </a:r>
            <a:r>
              <a:rPr b="1" lang="ja-JP" sz="2400" spc="-1" strike="noStrike">
                <a:solidFill>
                  <a:srgbClr val="333399"/>
                </a:solidFill>
                <a:latin typeface="Tahoma"/>
              </a:rPr>
              <a:t>「シンデレラ」における射影変換の</a:t>
            </a:r>
            <a:r>
              <a:rPr b="1" lang="en-US" sz="2400" spc="-1" strike="noStrike">
                <a:solidFill>
                  <a:srgbClr val="333399"/>
                </a:solidFill>
                <a:latin typeface="Tahoma"/>
              </a:rPr>
              <a:t>2</a:t>
            </a:r>
            <a:r>
              <a:rPr b="1" lang="ja-JP" sz="2400" spc="-1" strike="noStrike">
                <a:solidFill>
                  <a:srgbClr val="333399"/>
                </a:solidFill>
                <a:latin typeface="Tahoma"/>
              </a:rPr>
              <a:t>つの方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1000800" y="1523880"/>
            <a:ext cx="7286760" cy="229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20000"/>
              </a:lnSpc>
              <a:buClr>
                <a:srgbClr val="333399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図形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object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として変換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br>
              <a:rPr sz="1800"/>
            </a:b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odes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」→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ormati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」→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ive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ransformation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」と進み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　　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点の像を指定し変換を定義．図形を選択し右上に出来るボタンをクリック．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b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)[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図形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object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を作成しないで変換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]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CindyScriptEditor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を立ち上げ 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tbasis(A’,B’,C’,D’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」で座標系を移す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その後 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raw(obj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」や「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lot(func)</a:t>
            </a:r>
            <a:r>
              <a:rPr b="0" lang="ja-JP" sz="1800" spc="-1" strike="noStrike">
                <a:solidFill>
                  <a:srgbClr val="000000"/>
                </a:solidFill>
                <a:latin typeface="Tahoma"/>
              </a:rPr>
              <a:t>」で　点や線分やグラフを描く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7417800" y="6051600"/>
            <a:ext cx="833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射影変換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.</a:t>
            </a: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5"/>
          <a:stretch/>
        </p:blipFill>
        <p:spPr>
          <a:xfrm>
            <a:off x="1887480" y="4010040"/>
            <a:ext cx="5427720" cy="246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495520" y="335268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898560" y="48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219320" y="203040"/>
            <a:ext cx="69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§2-2. 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完全四辺形（の集合）の射影変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924600" y="990720"/>
            <a:ext cx="1235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完全四辺形の変換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324480" y="232236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942840"/>
            <a:ext cx="7086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赤い太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直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J)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が無限遠直線になるように射影変換すると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" name=""/>
          <p:cNvGrpSpPr/>
          <p:nvPr/>
        </p:nvGrpSpPr>
        <p:grpSpPr>
          <a:xfrm>
            <a:off x="1116720" y="4811760"/>
            <a:ext cx="6585480" cy="1669320"/>
            <a:chOff x="1116720" y="4811760"/>
            <a:chExt cx="6585480" cy="1669320"/>
          </a:xfrm>
        </p:grpSpPr>
        <p:sp>
          <p:nvSpPr>
            <p:cNvPr id="181" name=""/>
            <p:cNvSpPr/>
            <p:nvPr/>
          </p:nvSpPr>
          <p:spPr>
            <a:xfrm>
              <a:off x="1454760" y="5108400"/>
              <a:ext cx="6247440" cy="1372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ahoma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四辺形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EC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が平行四辺形となるような点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をとる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buClr>
                  <a:srgbClr val="000000"/>
                </a:buClr>
                <a:buFont typeface="Tahoma"/>
                <a:buAutoNum type="alphaLcParenR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スライダーを作成し，スライダー上の点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P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にパラメーター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を対応させる．点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’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を，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　　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が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0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→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１と変化すると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D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から 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E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へ動くように定義する．（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CindyScript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利用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)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c)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四辺形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DC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を 四辺形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ABD’C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へ写す射影変換を定義し，全ての図形を選択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　　次にスライダーと変換ボタン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(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通常はラベルは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Tr0)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のみ選択を解除し，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spector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で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    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「</a:t>
              </a:r>
              <a:r>
                <a:rPr b="0" lang="en-US" sz="1400" spc="-1" strike="noStrike">
                  <a:solidFill>
                    <a:srgbClr val="000000"/>
                  </a:solidFill>
                  <a:latin typeface="Tahoma"/>
                </a:rPr>
                <a:t>invisible</a:t>
              </a: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」　に設定．　最後に変換ボタンをクリックして，図形を変換し スライダーを動かす．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116720" y="4811760"/>
              <a:ext cx="8208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ja-JP" sz="1400" spc="-1" strike="noStrike">
                  <a:solidFill>
                    <a:srgbClr val="000000"/>
                  </a:solidFill>
                  <a:latin typeface="Tahoma"/>
                </a:rPr>
                <a:t>［作図方法］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1676520" y="3581280"/>
            <a:ext cx="647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1.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対角線の交点が一致するように完全四辺形を積み重ねた図形  は，その３交点が共線になっていれば，斜交座標系の射影である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2. [J,D,M,B]=[F,D,O,C]=-1 (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共役点と交点間の複比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)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も分かる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629400" y="1332000"/>
            <a:ext cx="2362320" cy="202068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237960" y="1484280"/>
            <a:ext cx="6010560" cy="1593720"/>
          </a:xfrm>
          <a:prstGeom prst="rect">
            <a:avLst/>
          </a:prstGeom>
          <a:ln w="0">
            <a:noFill/>
          </a:ln>
        </p:spPr>
      </p:pic>
      <p:grpSp>
        <p:nvGrpSpPr>
          <p:cNvPr id="186" name=""/>
          <p:cNvGrpSpPr/>
          <p:nvPr/>
        </p:nvGrpSpPr>
        <p:grpSpPr>
          <a:xfrm>
            <a:off x="1143000" y="3581280"/>
            <a:ext cx="7009920" cy="914040"/>
            <a:chOff x="1143000" y="3581280"/>
            <a:chExt cx="7009920" cy="914040"/>
          </a:xfrm>
        </p:grpSpPr>
        <p:sp>
          <p:nvSpPr>
            <p:cNvPr id="187" name=""/>
            <p:cNvSpPr/>
            <p:nvPr/>
          </p:nvSpPr>
          <p:spPr>
            <a:xfrm>
              <a:off x="1615320" y="3581280"/>
              <a:ext cx="6537600" cy="91404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1143000" y="4079880"/>
              <a:ext cx="393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2478240" y="3048120"/>
            <a:ext cx="1788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［幾何再入門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練習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･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6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･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ja-JP" sz="1000" spc="-1" strike="noStrike">
                <a:solidFill>
                  <a:srgbClr val="000000"/>
                </a:solidFill>
                <a:latin typeface="Tahoma"/>
              </a:rPr>
              <a:t>］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2495520" y="335268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898560" y="48988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09680" y="2286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§2-3. 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楕円の射影変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7293600" y="1295280"/>
            <a:ext cx="960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ahoma"/>
              </a:rPr>
              <a:t>楕円の変換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.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85800" y="942840"/>
            <a:ext cx="800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青い太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直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K)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が無限遠直線になる様に射影すると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,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楕円はどのような図形に移る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371600" y="6019920"/>
            <a:ext cx="5638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楕円は放物線に移る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.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かつ，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[K,D,C,B]=[E,L,D,T]=-1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で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K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と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E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が無限遠点になるので　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BD=CD,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333399"/>
                </a:solidFill>
                <a:latin typeface="Tahoma"/>
              </a:rPr>
              <a:t>DL=LT </a:t>
            </a:r>
            <a:r>
              <a:rPr b="0" lang="ja-JP" sz="1800" spc="-1" strike="noStrike">
                <a:solidFill>
                  <a:srgbClr val="333399"/>
                </a:solidFill>
                <a:latin typeface="Tahoma"/>
              </a:rPr>
              <a:t>とな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914400" y="6019920"/>
            <a:ext cx="6095520" cy="609480"/>
            <a:chOff x="914400" y="6019920"/>
            <a:chExt cx="6095520" cy="609480"/>
          </a:xfrm>
        </p:grpSpPr>
        <p:sp>
          <p:nvSpPr>
            <p:cNvPr id="198" name=""/>
            <p:cNvSpPr/>
            <p:nvPr/>
          </p:nvSpPr>
          <p:spPr>
            <a:xfrm>
              <a:off x="1325160" y="6019920"/>
              <a:ext cx="5684760" cy="609480"/>
            </a:xfrm>
            <a:prstGeom prst="rect">
              <a:avLst/>
            </a:prstGeom>
            <a:solidFill>
              <a:srgbClr val="bbe0e3">
                <a:alpha val="20000"/>
              </a:srgbClr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914400" y="6352200"/>
              <a:ext cx="342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0" name="" descr=""/>
          <p:cNvPicPr/>
          <p:nvPr/>
        </p:nvPicPr>
        <p:blipFill>
          <a:blip r:embed="rId2"/>
          <a:stretch/>
        </p:blipFill>
        <p:spPr>
          <a:xfrm>
            <a:off x="2133720" y="3809880"/>
            <a:ext cx="4233600" cy="1986120"/>
          </a:xfrm>
          <a:prstGeom prst="rect">
            <a:avLst/>
          </a:prstGeom>
          <a:ln w="0">
            <a:noFill/>
          </a:ln>
        </p:spPr>
      </p:pic>
      <p:sp>
        <p:nvSpPr>
          <p:cNvPr id="201" name=""/>
          <p:cNvSpPr/>
          <p:nvPr/>
        </p:nvSpPr>
        <p:spPr>
          <a:xfrm>
            <a:off x="4191120" y="3505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1752480" y="1600200"/>
            <a:ext cx="5105520" cy="1836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03" name=""/>
          <p:cNvGraphicFramePr/>
          <p:nvPr/>
        </p:nvGraphicFramePr>
        <p:xfrm>
          <a:off x="6553080" y="5105520"/>
          <a:ext cx="2438640" cy="7491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04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553080" y="5105520"/>
                    <a:ext cx="2438640" cy="749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5" name=""/>
          <p:cNvSpPr/>
          <p:nvPr/>
        </p:nvSpPr>
        <p:spPr>
          <a:xfrm flipH="1">
            <a:off x="4038480" y="4495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4114800" y="44956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 flipH="1">
            <a:off x="4995720" y="4952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5029200" y="4952880"/>
            <a:ext cx="76320" cy="76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876920" y="4724280"/>
            <a:ext cx="7596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4800600"/>
            <a:ext cx="76320" cy="763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2286000" y="304920"/>
            <a:ext cx="449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ahoma"/>
              </a:rPr>
              <a:t>§2-4. </a:t>
            </a: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デザルグの定理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85800" y="1552680"/>
            <a:ext cx="769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C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△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’B’C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が配景的なとき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∩A’C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∩B’C’=R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の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点を無限遠点に射影すると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∩A’B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＝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はどうなるか？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715000" y="39006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7200" y="838080"/>
            <a:ext cx="8229600" cy="457200"/>
            <a:chOff x="457200" y="838080"/>
            <a:chExt cx="8229600" cy="457200"/>
          </a:xfrm>
        </p:grpSpPr>
        <p:sp>
          <p:nvSpPr>
            <p:cNvPr id="217" name=""/>
            <p:cNvSpPr/>
            <p:nvPr/>
          </p:nvSpPr>
          <p:spPr>
            <a:xfrm>
              <a:off x="1744920" y="852120"/>
              <a:ext cx="5396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2</a:t>
              </a:r>
              <a:r>
                <a:rPr b="0" lang="ja-JP" sz="1800" spc="-1" strike="noStrike">
                  <a:solidFill>
                    <a:srgbClr val="333399"/>
                  </a:solidFill>
                  <a:latin typeface="Tahoma"/>
                </a:rPr>
                <a:t>つの三角形がある点に関し配景的ならば</a:t>
              </a:r>
              <a:r>
                <a:rPr b="0" lang="en-US" sz="1800" spc="-1" strike="noStrike">
                  <a:solidFill>
                    <a:srgbClr val="333399"/>
                  </a:solidFill>
                  <a:latin typeface="Tahoma"/>
                </a:rPr>
                <a:t>, </a:t>
              </a:r>
              <a:r>
                <a:rPr b="0" lang="ja-JP" sz="1800" spc="-1" strike="noStrike">
                  <a:solidFill>
                    <a:srgbClr val="333399"/>
                  </a:solidFill>
                  <a:latin typeface="Tahoma"/>
                </a:rPr>
                <a:t>対応する辺の３つの交点は共線とな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7200" y="838080"/>
              <a:ext cx="8229600" cy="4572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1174320" y="5342040"/>
            <a:ext cx="667296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Tahoma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スライダーを作成し，スライダー上の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P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にパラメーター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を対応させる．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’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を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→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１と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変化するとき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Q [Q.x, Q.y, 1]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から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Q.x, Q.y, 0]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へ動くように定義する．点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’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に関しても同様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.</a:t>
            </a:r>
            <a:br>
              <a:rPr sz="1400"/>
            </a:b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（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indyScript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利用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ｂ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)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四辺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QR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を四辺形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BQ’R’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へ写す射影変換を定義し，全ての図形を選択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　　次にスライダーと変換ボタン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通常はラベルは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r0)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のみ選択を解除し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spector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「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nvisible</a:t>
            </a: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」　に設定．　最後に変換ボタンをクリックして，図形を変換し スライダーを動かす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2"/>
          <a:stretch/>
        </p:blipFill>
        <p:spPr>
          <a:xfrm>
            <a:off x="6095880" y="2873520"/>
            <a:ext cx="2667240" cy="205236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1256760" y="2286000"/>
            <a:ext cx="62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→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//A’C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かつ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C//B’C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であるから，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//A’B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なり，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 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も無限遠直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R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上に移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2286000"/>
            <a:ext cx="7315200" cy="380880"/>
          </a:xfrm>
          <a:prstGeom prst="rect">
            <a:avLst/>
          </a:prstGeom>
          <a:solidFill>
            <a:srgbClr val="bbe0e3">
              <a:alpha val="2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907200" y="5029200"/>
            <a:ext cx="82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000000"/>
                </a:solidFill>
                <a:latin typeface="Tahoma"/>
              </a:rPr>
              <a:t>［作図方法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639560" y="1859040"/>
            <a:ext cx="12322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Desargues.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5" name="" descr=""/>
          <p:cNvPicPr/>
          <p:nvPr/>
        </p:nvPicPr>
        <p:blipFill>
          <a:blip r:embed="rId4"/>
          <a:stretch/>
        </p:blipFill>
        <p:spPr>
          <a:xfrm>
            <a:off x="533520" y="2903400"/>
            <a:ext cx="5137200" cy="19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2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0" y="3268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2495520" y="3425760"/>
            <a:ext cx="4152960" cy="7920"/>
          </a:xfrm>
          <a:prstGeom prst="rect">
            <a:avLst/>
          </a:prstGeom>
          <a:ln w="0">
            <a:noFill/>
          </a:ln>
        </p:spPr>
      </p:pic>
      <p:sp>
        <p:nvSpPr>
          <p:cNvPr id="228" name=""/>
          <p:cNvSpPr/>
          <p:nvPr/>
        </p:nvSpPr>
        <p:spPr>
          <a:xfrm>
            <a:off x="1752480" y="3049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800" spc="-1" strike="noStrike">
                <a:solidFill>
                  <a:srgbClr val="333399"/>
                </a:solidFill>
                <a:latin typeface="Tahoma"/>
              </a:rPr>
              <a:t>［補充１］ デザルグの定理の別証明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80880" y="1066680"/>
            <a:ext cx="769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□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BB’A’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を正方形になるように射影する．このとき直線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QR//AB</a:t>
            </a:r>
            <a:r>
              <a:rPr b="0" lang="ja-JP" sz="1600" spc="-1" strike="noStrike">
                <a:solidFill>
                  <a:srgbClr val="000000"/>
                </a:solidFill>
                <a:latin typeface="Tahoma"/>
              </a:rPr>
              <a:t>となる事を示す．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29360" y="37339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7432920" y="1096920"/>
            <a:ext cx="131904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Desargues2.c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" descr=""/>
          <p:cNvPicPr/>
          <p:nvPr/>
        </p:nvPicPr>
        <p:blipFill>
          <a:blip r:embed="rId3"/>
          <a:stretch/>
        </p:blipFill>
        <p:spPr>
          <a:xfrm>
            <a:off x="6510240" y="2057400"/>
            <a:ext cx="1947960" cy="3314880"/>
          </a:xfrm>
          <a:prstGeom prst="rect">
            <a:avLst/>
          </a:prstGeom>
          <a:ln w="0">
            <a:noFill/>
          </a:ln>
        </p:spPr>
      </p:pic>
      <p:pic>
        <p:nvPicPr>
          <p:cNvPr id="233" name="" descr=""/>
          <p:cNvPicPr/>
          <p:nvPr/>
        </p:nvPicPr>
        <p:blipFill>
          <a:blip r:embed="rId4"/>
          <a:stretch/>
        </p:blipFill>
        <p:spPr>
          <a:xfrm>
            <a:off x="762120" y="2743200"/>
            <a:ext cx="5137200" cy="197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9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30T06:06:47Z</dcterms:created>
  <dc:creator/>
  <dc:description/>
  <cp:keywords/>
  <dc:language>en-US</dc:language>
  <cp:lastModifiedBy>shigeki</cp:lastModifiedBy>
  <dcterms:modified xsi:type="dcterms:W3CDTF">2016-04-12T15:47:36Z</dcterms:modified>
  <cp:revision>3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1041-9.1.0.4480</vt:lpwstr>
  </property>
  <property fmtid="{D5CDD505-2E9C-101B-9397-08002B2CF9AE}" pid="3" name="Version">
    <vt:r8>1</vt:r8>
  </property>
</Properties>
</file>